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3836D-0F25-4631-AB1F-3A93DCE1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47A0D-64FE-4111-AC39-880A1DD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EB7E4-5E14-40C9-A7C3-4E4FDBE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CA079-D0FE-4C6E-B3C4-1B3B4B1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CA6AD-29E3-48AE-AF8C-B4F1CC54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045A1-1E62-4904-96E6-2534140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A6E94-6369-4D2C-954B-C694EFA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06D1B-8EC3-43CB-BD61-2E01CB05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F1A4A-618B-42FF-8579-A7BCD4E2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04014-A511-4722-AD2D-10C0008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ECAB0-C14D-449C-9D15-00A6601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60623-18BC-4F88-841E-297168C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C15E8-BB14-4143-B041-87D6CD01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2C8CA-B08D-4FDF-AC48-4C69E99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915AD-A1C6-4324-A288-5C93693A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48F72-9FA5-4FB8-B917-C35BA15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A5FA8-2B90-44DF-A50E-B52A421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9BCF7-7608-45FD-BE99-C96AF3A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6AA61-6032-4DB3-AF58-DD5CCCB4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78560-18D7-4A99-8082-0C73A6A8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4F4F7-4DAA-4F2D-9A94-C8F976E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596725-EFC7-47EC-BC0E-920897F6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E7CCD2-3AD9-4F11-8D27-E6F70DD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178053-0D71-4B44-9250-30166A7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39754F-2662-450D-A9BB-F146016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400E06-EDA0-44E1-8647-7AA2C4F2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A0F6E-1ED1-4610-BAAA-E9696B1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ABCA8D-F12B-43FE-A55E-0D15688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1E1B7E-0DF7-414E-8BEC-E1F330C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E16806-F3D7-4FD3-995B-8504C2A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C2270-9D0A-40CB-AE6B-D048947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F1DBFF-D6A3-4EDA-8606-FBCD6A23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72562B-46FB-435A-907B-4D108901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59F02D-FFCA-45FB-8F93-FD04FF08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05ED7-3ACE-49DF-A8F5-43A76E9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CAFC4-2B8E-446C-94E4-6142CE5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0CE34-38C9-4DF9-BADA-55B0B9D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35963-88F7-404A-BD58-8378AA03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482FA-0444-47AB-A91F-065ECD3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7B5C6-CE37-45B7-9C8D-24DBADCC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748DD-BF6D-4D0B-B665-2439D49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E5E93-1005-43EE-9B0E-32F47E6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DFFB6-DBA5-4D51-A6ED-7F820CA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9DD42-1A76-43D9-AF6F-A4D9FD3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CC4E0-EB6D-4050-91C4-27B3DB2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223CE-6670-41BE-811F-04F7532B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13580-1446-4C3A-97BC-25CD0FEA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5FE1B1-7372-4AA3-8D34-1DE5150B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A827EB-BD03-46D4-A632-47A6DD7C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5E62C0-9AE2-4161-A26A-674252B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33DD5C-0AC2-42A4-9A67-C1B5467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BA42E7-A0E8-4C9F-9872-883E817A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C2D93-AC17-46DA-80AE-4A39F09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1CC4E3-8BED-466A-87A4-46F90611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1A3F2B-2438-456B-9E18-8F6CC43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241906-8AC5-4B84-AE06-1C93E04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DB35E1-D938-4629-9706-3AB7189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4C1A2-F39E-41F6-AF80-FA91CA2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C5B473-9D50-4315-BC0A-BA07CF00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4E2C6C-23F4-42F0-9202-A23EA336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A58039-EB6E-417A-97F2-870AE3DF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2D97B7-2128-4A92-B3F2-EB55040B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B71F4D-BF56-4E97-AA5F-56732032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D0DBE-F8E2-41F1-98E7-D4CCD5F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329144-3349-4E4A-90D6-9B9B0EA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D3D833-2F7E-49C5-8997-C7B03AED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C988E7-A215-44E8-A683-233CFC53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25EC8F-66DD-415C-A380-0489DCF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CBE938-6E16-4C96-A944-08567A8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D1CDBA-2A92-4E82-A81D-158C912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ADAD70-AEDD-4E60-92A6-3DE588F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309A63-029E-4936-B9F8-2BBC41CF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04B88D-CB32-4630-A220-A6DCE510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A170C2-ADA7-4220-BE43-A888D57D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FA58F-D35A-4BE3-8FB0-C1A4F5C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073351-BB07-4EA8-8896-09AD6FF5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1C4033-6717-4DE6-9641-ACF4491F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82FCAF-CADA-4EA0-8908-821458F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E520F3-75C6-46CE-8A0E-B73CA37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9EF0EC-E4C6-43F4-8A9F-BF9B0797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C26AE8-B787-4249-9751-3B1AF70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CE30FF-0975-444F-BF7C-3EA3952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B27B70-95A6-441B-84A7-9E8FF4AE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B8AF7A-0451-44EF-95CB-936F526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B8686C-545B-4720-A79F-BA45C366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99EB-9A58-406E-919C-6AFB0AF7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EAECA8-EB21-496E-AB64-B3A1A0D4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A32F6-987E-4140-9D27-B971AE0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7AD17-8E2B-4ED3-8434-D7582EB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14F6-C656-47E5-A34C-7B6B948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3853-E467-4468-B11B-7451B3DF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BB260-9C66-48E2-AB74-E4B3B181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416C6-0694-4D45-9961-5FD5B061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E27F4-3297-4308-B93F-30FBE2E7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3B82B-399D-4710-A377-E5CC2624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01C88-D5A8-4ECB-AEA7-3BC6975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CDD05-1403-4C60-89D9-D4D2CB5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ADCB-8FF6-4551-8CD2-D0017501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5FD3F-118E-4D6F-8334-31BF46EE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70F2A-B25E-4FE2-BECD-53DBC6B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48AA6-CC76-49DA-AC70-7903F60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C607A-3D5B-4D6D-AF7C-E92A7EE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6C6CA-2265-4DF2-A81E-485FCC0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3C58B-4625-44AC-9CF7-E90D005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38793-B708-433D-9D91-DEF710E9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0F173-A110-488F-ABED-38E15C47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ADBF9-9549-4C4B-B010-D4CA7106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16576-E93D-4772-BEBA-3853E9B9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88627-D810-486A-85FA-74E72E4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989D2-D2A0-47DC-8C0A-FE8D437F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4B084-C3ED-42F7-A376-04C30DEC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9266B-79BE-4B7E-85A6-D39CBF5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7A467-F30B-421C-A077-F3C3DE67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63E64-7AE4-4F32-B68A-8BC9FE6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5B4AA-1BA6-4854-A18F-979EA8DA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2E4F8-53FB-47F5-A64B-C23856A3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C8EC4-93B2-4333-9357-CA26FE71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80566-97E0-4990-B725-C01E12F7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6CD35-D5FA-45C6-AE28-4B73DEA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F2136-36B1-49BA-824B-9CAA023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B09C7-0ECD-4BA0-9A51-F2DA031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59288-3887-46ED-B786-07E1B5F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89EC9-3AAE-43A0-B1BA-1A1EAD50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2088B-5B8E-4367-A872-58416A40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322C9-3B91-4701-9989-71A4A05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86F35-82B7-40A3-BE5F-D366D6E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DE2A3-EFCE-40F0-97C2-CCA6A99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3BB5A-F6C0-4852-AB90-11CB48B3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E58D7-85D7-4A12-908E-269466DF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D148F-C36E-4EB4-AC48-0D70DD31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6A43A-6A72-4D0C-9A33-35EF986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787A8-0E32-47A3-BFF0-E710F7A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1EB4C-40D3-4450-9725-FE59BBA9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6224E-2B42-4E67-9C2C-BAED626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43A9E-908E-40D4-A111-239990FE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B4663-559A-48BF-948E-BEF97AD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544AB-0761-495B-9455-880E3CE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DEDC0-0786-47C1-B780-E37A4EE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E049F-6BCE-4E1D-A71D-D11EF479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051BE-F2E6-4865-99F9-85F27F17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725BF-88E8-405C-8208-8BF24A9E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90739-24F7-4B1E-870B-93594F6F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F289B-A9A7-460B-899C-D81AA40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23BBD-6233-4243-B97E-C21B8538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E9A6-66C2-4251-9000-E2F247B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28706-D66C-4E93-9C99-6321F38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91C50-57CC-46BE-92C5-3C56617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7A5EF-E693-4A75-8984-1182257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1AA37-CEAA-4E35-B0DA-98DF118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659C4-AC24-47C2-A977-4B29A72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0701D-58D7-4B1B-97F5-FD5FA0D4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05AF1-F4DA-4410-A481-8615D9F3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76B08-139E-4CB2-8560-DA49B73E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A059B-C38D-4D9D-836E-990362E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95F5B-B1BE-405D-A976-809A2AA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ECED3-4F78-4F9E-BD0D-A7E2344E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4" name="Picture 9" descr="C:\Users\dak\Desktop\hep_logo [klein].jpg"/>
          <p:cNvPicPr/>
          <p:nvPr/>
        </p:nvPicPr>
        <p:blipFill>
          <a:blip r:embed="rId2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5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148360" y="6583320"/>
            <a:ext cx="40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    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Brunetti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Volkswirtschaftslehre – Ausgabe 2017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978-3-0355-0799-7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" name="Picture 10" descr="C:\Users\dak\Desktop\hep_logo [klein2].jpg"/>
          <p:cNvPicPr/>
          <p:nvPr/>
        </p:nvPicPr>
        <p:blipFill>
          <a:blip r:embed="rId3"/>
          <a:stretch/>
        </p:blipFill>
        <p:spPr>
          <a:xfrm>
            <a:off x="108000" y="6286680"/>
            <a:ext cx="156960" cy="500040"/>
          </a:xfrm>
          <a:prstGeom prst="rect">
            <a:avLst/>
          </a:prstGeom>
          <a:ln w="0">
            <a:noFill/>
          </a:ln>
        </p:spPr>
      </p:pic>
      <p:sp>
        <p:nvSpPr>
          <p:cNvPr id="8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7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0FD-6489-407B-A41A-1D31AFB26BF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0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845C-F2A6-4FC9-B4D3-393179F88EF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3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4F9-AA39-4EB1-AB66-6B393A63B6A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6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B95-751E-4FF3-8C37-CB2968EFBE9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9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BE73-9AD5-43CE-9478-C5B7AABD4C1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B08-60A1-4F56-BF4C-0AB69DCE3B0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6D4-C655-497C-95E8-B1DBD6340DCE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5559480" y="6022440"/>
            <a:ext cx="3085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87640" y="56167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BFF4-5768-4681-915B-DB37BB708B5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E6E-DC7E-43C7-89DC-3F191649818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C34-3FE7-4BED-AAE6-F38793DFD23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FBF8-58C9-47B7-89E7-7230AB7592A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9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2F9-8463-41E1-8222-7119478B084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4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A2E-7B65-428B-983D-2A457C4EEE8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4360" y="88704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CH" sz="4500" spc="-1" strike="noStrike">
                <a:solidFill>
                  <a:srgbClr val="000000"/>
                </a:solidFill>
                <a:latin typeface="Calibri"/>
              </a:rPr>
              <a:t>Emploi et chômag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431640" y="53737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 Je n’arrive pas à croire que je n’aie pas décroché ce poste de prof de maths ! » 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 Peut-être que tu n‘aurais pas dû dire que tu voulais te donner à 110 % ! »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622" name="Picture 6" descr="karikatur"/>
          <p:cNvPicPr/>
          <p:nvPr/>
        </p:nvPicPr>
        <p:blipFill>
          <a:blip r:embed="rId1"/>
          <a:stretch/>
        </p:blipFill>
        <p:spPr>
          <a:xfrm>
            <a:off x="611280" y="2840040"/>
            <a:ext cx="79135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344520" y="1214280"/>
            <a:ext cx="829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ourbe de Beverid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eprésentation graphique du rapport entre le nombre de chômeurs et le nombre de postes ouvert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 cas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3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b postes ouverts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nb chômeur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arché du travail asse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3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b postes ouverts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nb chômeurs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s de chômage conjoncturel, seulement résidu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3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b postes ouverts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nb chômeur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hômages résiduel +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44520" y="107172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ourbe de Beverid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oint X : seulement du chômage résidu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oint Y : chômages résiduel +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663" name="Groupe 3"/>
          <p:cNvGrpSpPr/>
          <p:nvPr/>
        </p:nvGrpSpPr>
        <p:grpSpPr>
          <a:xfrm>
            <a:off x="1403280" y="2349360"/>
            <a:ext cx="5184720" cy="3924360"/>
            <a:chOff x="1403280" y="2349360"/>
            <a:chExt cx="5184720" cy="3924360"/>
          </a:xfrm>
        </p:grpSpPr>
        <p:pic>
          <p:nvPicPr>
            <p:cNvPr id="664" name="Image 1" descr=""/>
            <p:cNvPicPr/>
            <p:nvPr/>
          </p:nvPicPr>
          <p:blipFill>
            <a:blip r:embed="rId1"/>
            <a:stretch/>
          </p:blipFill>
          <p:spPr>
            <a:xfrm>
              <a:off x="1403280" y="2349360"/>
              <a:ext cx="518472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Rectangle 2"/>
            <p:cNvSpPr/>
            <p:nvPr/>
          </p:nvSpPr>
          <p:spPr>
            <a:xfrm>
              <a:off x="1474560" y="2349360"/>
              <a:ext cx="1224000" cy="144360"/>
            </a:xfrm>
            <a:prstGeom prst="rect">
              <a:avLst/>
            </a:prstGeom>
            <a:solidFill>
              <a:srgbClr val="f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44520" y="112536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ourbe de Beverid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ourbe de Beveridge est le résultat de la conjonction des points de plusieurs années. La courbe peut se déplacer au fil des années.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669" name="Image 1" descr=""/>
          <p:cNvPicPr/>
          <p:nvPr/>
        </p:nvPicPr>
        <p:blipFill>
          <a:blip r:embed="rId1"/>
          <a:stretch/>
        </p:blipFill>
        <p:spPr>
          <a:xfrm>
            <a:off x="1619280" y="2695680"/>
            <a:ext cx="5184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6833e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344520" y="1214280"/>
            <a:ext cx="829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ans des phases de faiblesse conjoncturelle, les facteurs de production sont sous-utilisé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salaires ne baissant pas en raison de leur fixation dans des contrats, ce sont les postes de travail qui sont supprimé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urvient le chômage conjoncture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71520" y="119700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hômage conjoncturel représenté par le schéma macro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680" name="Groupe 4"/>
          <p:cNvGrpSpPr/>
          <p:nvPr/>
        </p:nvGrpSpPr>
        <p:grpSpPr>
          <a:xfrm>
            <a:off x="468360" y="2060640"/>
            <a:ext cx="7462800" cy="4495680"/>
            <a:chOff x="468360" y="2060640"/>
            <a:chExt cx="7462800" cy="4495680"/>
          </a:xfrm>
        </p:grpSpPr>
        <p:pic>
          <p:nvPicPr>
            <p:cNvPr id="681" name="Image 1" descr=""/>
            <p:cNvPicPr/>
            <p:nvPr/>
          </p:nvPicPr>
          <p:blipFill>
            <a:blip r:embed="rId1"/>
            <a:stretch/>
          </p:blipFill>
          <p:spPr>
            <a:xfrm>
              <a:off x="468360" y="2060640"/>
              <a:ext cx="74628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Rectangle 2"/>
            <p:cNvSpPr/>
            <p:nvPr/>
          </p:nvSpPr>
          <p:spPr>
            <a:xfrm>
              <a:off x="539640" y="2060640"/>
              <a:ext cx="792000" cy="144360"/>
            </a:xfrm>
            <a:prstGeom prst="rect">
              <a:avLst/>
            </a:prstGeom>
            <a:solidFill>
              <a:srgbClr val="f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  <p:sp>
          <p:nvSpPr>
            <p:cNvPr id="683" name="Rectangle 3"/>
            <p:cNvSpPr/>
            <p:nvPr/>
          </p:nvSpPr>
          <p:spPr>
            <a:xfrm>
              <a:off x="5869080" y="4005360"/>
              <a:ext cx="2062080" cy="2374920"/>
            </a:xfrm>
            <a:prstGeom prst="rect">
              <a:avLst/>
            </a:prstGeom>
            <a:solidFill>
              <a:srgbClr val="f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6833e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344520" y="121428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éfinition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324000" y="1787400"/>
            <a:ext cx="839124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Chômage structurel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tuation de chômage dans laquelle les qualifications des personnes au chômage ne correspondent pas aux profils des postes à pourvoir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44520" y="359424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 ne s’étend jamais à toute l’économie, mais touche seulement des branches spécifique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alèllement, on constate des créations de postes dans d’autres secteurs plus dynam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44520" y="954000"/>
            <a:ext cx="844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 n’existerait pas si les salaires étaient totalement flexibl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salaires sont fixés individuellement dans des contrats ou par des négociations salariales centralisé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 la courbe de la demande se réduit (déplacement à gauche de la courbe de la demande), alors du chômage est généré en raison de la suroffre, comme en cas de prix minimum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398520" y="4724280"/>
            <a:ext cx="839160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Négociations salariales centralisée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gociations salariales entre les représentants des employeurs (organisations patronales) et des employés (syndicats), dont les résultats valent pour toute la branche concerné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44520" y="928800"/>
            <a:ext cx="840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salaire fixe w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induit une suroffre et donc le chômage q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–q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00" name="Groupe 3"/>
          <p:cNvGrpSpPr/>
          <p:nvPr/>
        </p:nvGrpSpPr>
        <p:grpSpPr>
          <a:xfrm>
            <a:off x="1835280" y="1541520"/>
            <a:ext cx="5286240" cy="4800600"/>
            <a:chOff x="1835280" y="1541520"/>
            <a:chExt cx="5286240" cy="4800600"/>
          </a:xfrm>
        </p:grpSpPr>
        <p:pic>
          <p:nvPicPr>
            <p:cNvPr id="701" name="Image 1" descr=""/>
            <p:cNvPicPr/>
            <p:nvPr/>
          </p:nvPicPr>
          <p:blipFill>
            <a:blip r:embed="rId1"/>
            <a:stretch/>
          </p:blipFill>
          <p:spPr>
            <a:xfrm>
              <a:off x="1835280" y="1541520"/>
              <a:ext cx="52862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2"/>
            <p:cNvSpPr/>
            <p:nvPr/>
          </p:nvSpPr>
          <p:spPr>
            <a:xfrm>
              <a:off x="2030400" y="1541520"/>
              <a:ext cx="1152360" cy="144360"/>
            </a:xfrm>
            <a:prstGeom prst="rect">
              <a:avLst/>
            </a:prstGeom>
            <a:solidFill>
              <a:srgbClr val="f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11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057400" y="121752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« La récession, c’est quand votre voisin perd son emploi ;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la dépression, c’est quand vous perdez le vôtre. »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arry Truman (1884–1972), président des États-Unis de 1945 à 1953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627" name="Picture 9" descr="F:\hep\PP-Folien\Kapitel 4\harry-truman.jpg"/>
          <p:cNvPicPr/>
          <p:nvPr/>
        </p:nvPicPr>
        <p:blipFill>
          <a:blip r:embed="rId1"/>
          <a:stretch/>
        </p:blipFill>
        <p:spPr>
          <a:xfrm>
            <a:off x="322200" y="1217520"/>
            <a:ext cx="15750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44520" y="1096920"/>
            <a:ext cx="818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xcursus : la fin du travail ?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ntexte de cette peur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améliorations de la productivité telle que l’automatisation laissent à penser que le travail ne sera bientôt plus nécessaire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médias nous confrontent plus souvent aux licenciements qu’aux créations de postes, car ces derniers ont lieu de manière confidentielle et dispersée dans une multitude de PM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344520" y="1096920"/>
            <a:ext cx="844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xcursus : la fin du travail ?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tte peur est infondé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hausse de la productivité conduit à une hausse des revenu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nséquences :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hausse des salaires et/ou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hausse des profits et/ou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baisse des prix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mande supplémentaire qui ammène la création de nouveaux postes de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344520" y="1096920"/>
            <a:ext cx="85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xcursus : la fin du travail ?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Suisse, le nombre d’actifs occupés et le taux d’activité augmentent à long terme.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12" name="Image 4" descr=""/>
          <p:cNvPicPr/>
          <p:nvPr/>
        </p:nvPicPr>
        <p:blipFill>
          <a:blip r:embed="rId1"/>
          <a:stretch/>
        </p:blipFill>
        <p:spPr>
          <a:xfrm>
            <a:off x="344520" y="2608200"/>
            <a:ext cx="754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6833e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344520" y="1143000"/>
            <a:ext cx="829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niveau de chômage structurel dépend de la flexibilité du marché du travail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forte réglementation du marché du travail peut donner un sentiment subjectif de sécurité aux travailleurs, mais influence négativement la flexibilité et donc le taux d’occupat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2" name="Text Box 11"/>
          <p:cNvSpPr/>
          <p:nvPr/>
        </p:nvSpPr>
        <p:spPr>
          <a:xfrm>
            <a:off x="333360" y="1643040"/>
            <a:ext cx="8381880" cy="463536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ypes de réglementation du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alaires minimaux 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les négociations salariales très centralisées 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la réglementation des rapports de travail (protection contre le licenciement) 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. le régime de l’assurance-chômage 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5. la réglementation du temps de travai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1"/>
          <p:cNvSpPr/>
          <p:nvPr/>
        </p:nvSpPr>
        <p:spPr>
          <a:xfrm>
            <a:off x="338040" y="3908520"/>
            <a:ext cx="8382240" cy="45972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rotection contre le licenciement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333360" y="1285920"/>
            <a:ext cx="8381880" cy="82548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alaires minimaux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gociations salariales très centralisé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344520" y="240660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alaires rigides : comme pour les prix minimaux, cela engendre un recul de la demande et donc une sur-offre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chômage structure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357120" y="452772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forte protection contre le licenciement décourage les employeurs à engager durant les bonnes périodes, puisqu’ils seront empêchés de licencier en période plus difficiles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égime de l’assurance-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344520" y="207180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assurance-chômage généreuse réduit l’incitation des chômeurs à retrouver rapidement du travail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338040" y="3670200"/>
            <a:ext cx="8382240" cy="45972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églementation du temps de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357120" y="452772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baisse du temps de travail hebdomadaire équivaut, à salaire égal, à la fixation d’un salaire minimal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344520" y="163368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ations initiale et continue influencent également fortement le chômage structure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bon système éducatif permet aux travailleurs d’acquérir facilement d’autres qualifications en cas de changement structurel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6833e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6833e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344520" y="178596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comparaison internationale, la Suisse présente un bas taux de chômage et de forts taux d’activité et d’actifs occupé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raisons principales en sont la flexibilité du marché du travail suisse et une assurance-chômage efficac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44520" y="1500120"/>
            <a:ext cx="829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Flexibilité du marché du travail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Suisse ne connaît pas de salaire minimal généralisé ou légal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loi suisse ne fait pas obstacle à l’engagement ou au licenciement de personnes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eu de restrictions au niveau du temps de travail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344520" y="128592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Assurance-chômage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344520" y="2133720"/>
            <a:ext cx="8381880" cy="192276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tie passive : paiement d’une indemnité journaliè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tie active : mesures du marché du travai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4" name="Text Box 11"/>
          <p:cNvSpPr/>
          <p:nvPr/>
        </p:nvSpPr>
        <p:spPr>
          <a:xfrm>
            <a:off x="328680" y="1181160"/>
            <a:ext cx="8381880" cy="45972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tie passive : paiement d’une indemnité journalièr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344520" y="2000160"/>
            <a:ext cx="836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onnées actuelles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urée max. : 400 jour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ndemnité : 70 % à 80 % du dernier salai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alaire max. assuré : CHF 148</a:t>
            </a:r>
            <a:r>
              <a:rPr b="0" lang="de-CH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00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ériode de cotisation : 12 mois au cours des 2 dernières anné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Financement de l’assurance par des cotisations prélevées auprès des employeurs et employé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328680" y="1181160"/>
            <a:ext cx="8381880" cy="45972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tie active : mesures du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344520" y="2000160"/>
            <a:ext cx="82994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esures du marché du travail importantes en Suiss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Formation continue et reconversion des chômeur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Allocations temporaires durant une période d’initiation à un nouveau travai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romotion de l’indépendanc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Gain intermédiaire : forme de subside dans le temps qui permet à un chômeur d’accepter provisoirement un emploi moins rémunér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333360" y="1643040"/>
            <a:ext cx="8381880" cy="3385800"/>
          </a:xfrm>
          <a:prstGeom prst="rect">
            <a:avLst/>
          </a:prstGeom>
          <a:solidFill>
            <a:srgbClr val="e1be9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Indicateurs importants concernant le marché du travail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aux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aux d’activi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aux d’actifs occupé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324000" y="114300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Indicateurs importants concernant le marché du travail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639" name="Groupe 3"/>
          <p:cNvGrpSpPr/>
          <p:nvPr/>
        </p:nvGrpSpPr>
        <p:grpSpPr>
          <a:xfrm>
            <a:off x="322200" y="1773360"/>
            <a:ext cx="8299440" cy="4786200"/>
            <a:chOff x="322200" y="1773360"/>
            <a:chExt cx="8299440" cy="4786200"/>
          </a:xfrm>
        </p:grpSpPr>
        <p:pic>
          <p:nvPicPr>
            <p:cNvPr id="640" name="Image 1" descr=""/>
            <p:cNvPicPr/>
            <p:nvPr/>
          </p:nvPicPr>
          <p:blipFill>
            <a:blip r:embed="rId1"/>
            <a:stretch/>
          </p:blipFill>
          <p:spPr>
            <a:xfrm>
              <a:off x="322200" y="1773360"/>
              <a:ext cx="829944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Rectangle 2"/>
            <p:cNvSpPr/>
            <p:nvPr/>
          </p:nvSpPr>
          <p:spPr>
            <a:xfrm>
              <a:off x="539640" y="1773360"/>
              <a:ext cx="1079280" cy="144360"/>
            </a:xfrm>
            <a:prstGeom prst="rect">
              <a:avLst/>
            </a:prstGeom>
            <a:solidFill>
              <a:srgbClr val="f8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324000" y="1111320"/>
            <a:ext cx="829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er la situation sur le march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c6833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6833e"/>
                </a:solidFill>
                <a:latin typeface="Calibri"/>
              </a:rPr>
              <a:t>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auses du chômage stru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l’emploi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648" name="Groupe 3"/>
          <p:cNvGrpSpPr/>
          <p:nvPr/>
        </p:nvGrpSpPr>
        <p:grpSpPr>
          <a:xfrm>
            <a:off x="0" y="1484280"/>
            <a:ext cx="8982000" cy="4321080"/>
            <a:chOff x="0" y="1484280"/>
            <a:chExt cx="8982000" cy="4321080"/>
          </a:xfrm>
        </p:grpSpPr>
        <p:pic>
          <p:nvPicPr>
            <p:cNvPr id="649" name="Image 1" descr=""/>
            <p:cNvPicPr/>
            <p:nvPr/>
          </p:nvPicPr>
          <p:blipFill>
            <a:blip r:embed="rId1"/>
            <a:stretch/>
          </p:blipFill>
          <p:spPr>
            <a:xfrm>
              <a:off x="0" y="1484280"/>
              <a:ext cx="898200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Rectangle 2"/>
            <p:cNvSpPr/>
            <p:nvPr/>
          </p:nvSpPr>
          <p:spPr>
            <a:xfrm>
              <a:off x="179280" y="1484280"/>
              <a:ext cx="1368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344520" y="1500120"/>
            <a:ext cx="829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hômage frictionn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hômage lié à un changement de poste, chômage tampon entre deux postes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Forme peu problématique de chômag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meilleure transparence du marché du travail tend à réduire cette forme de chômage.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344520" y="1500120"/>
            <a:ext cx="829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hômage conjoncture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Forme engendrée par une récess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hômage structurel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ié à l’évolution structurelle d’une sociét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somme des chômages structurel et frictionnel est désignée comme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hômage résidue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mportant : à la différence d’une situation de chômage conjoncturel, il y a suffisamment de postes ouverts en cas de chômage résidue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c68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Les formes de chômag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32:08Z</dcterms:created>
  <dc:creator>Damian Künzi</dc:creator>
  <dc:description/>
  <dc:language>en-US</dc:language>
  <cp:lastModifiedBy>Alice Micheau</cp:lastModifiedBy>
  <cp:lastPrinted>2019-05-09T06:07:26Z</cp:lastPrinted>
  <dcterms:modified xsi:type="dcterms:W3CDTF">2022-08-30T09:17:32Z</dcterms:modified>
  <cp:revision>225</cp:revision>
  <dc:subject/>
  <dc:title>Inflation und Geldpolitik</dc:title>
</cp:coreProperties>
</file>