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23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21.png" ContentType="image/png"/>
  <Override PartName="/ppt/media/image19.png" ContentType="image/png"/>
  <Override PartName="/ppt/media/image24.jpeg" ContentType="image/jpeg"/>
  <Override PartName="/ppt/media/image3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25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  <p:sldId id="294" r:id="rId57"/>
    <p:sldId id="295" r:id="rId58"/>
    <p:sldId id="296" r:id="rId59"/>
    <p:sldId id="297" r:id="rId60"/>
    <p:sldId id="298" r:id="rId61"/>
    <p:sldId id="299" r:id="rId62"/>
    <p:sldId id="300" r:id="rId63"/>
    <p:sldId id="301" r:id="rId64"/>
    <p:sldId id="302" r:id="rId65"/>
    <p:sldId id="303" r:id="rId66"/>
    <p:sldId id="304" r:id="rId67"/>
    <p:sldId id="305" r:id="rId68"/>
    <p:sldId id="306" r:id="rId69"/>
    <p:sldId id="307" r:id="rId70"/>
    <p:sldId id="308" r:id="rId71"/>
    <p:sldId id="309" r:id="rId72"/>
    <p:sldId id="310" r:id="rId73"/>
    <p:sldId id="311" r:id="rId74"/>
    <p:sldId id="312" r:id="rId7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slide" Target="slides/slide39.xml"/><Relationship Id="rId58" Type="http://schemas.openxmlformats.org/officeDocument/2006/relationships/slide" Target="slides/slide40.xml"/><Relationship Id="rId59" Type="http://schemas.openxmlformats.org/officeDocument/2006/relationships/slide" Target="slides/slide41.xml"/><Relationship Id="rId60" Type="http://schemas.openxmlformats.org/officeDocument/2006/relationships/slide" Target="slides/slide42.xml"/><Relationship Id="rId61" Type="http://schemas.openxmlformats.org/officeDocument/2006/relationships/slide" Target="slides/slide43.xml"/><Relationship Id="rId62" Type="http://schemas.openxmlformats.org/officeDocument/2006/relationships/slide" Target="slides/slide44.xml"/><Relationship Id="rId63" Type="http://schemas.openxmlformats.org/officeDocument/2006/relationships/slide" Target="slides/slide45.xml"/><Relationship Id="rId64" Type="http://schemas.openxmlformats.org/officeDocument/2006/relationships/slide" Target="slides/slide46.xml"/><Relationship Id="rId65" Type="http://schemas.openxmlformats.org/officeDocument/2006/relationships/slide" Target="slides/slide47.xml"/><Relationship Id="rId66" Type="http://schemas.openxmlformats.org/officeDocument/2006/relationships/slide" Target="slides/slide48.xml"/><Relationship Id="rId67" Type="http://schemas.openxmlformats.org/officeDocument/2006/relationships/slide" Target="slides/slide49.xml"/><Relationship Id="rId68" Type="http://schemas.openxmlformats.org/officeDocument/2006/relationships/slide" Target="slides/slide50.xml"/><Relationship Id="rId69" Type="http://schemas.openxmlformats.org/officeDocument/2006/relationships/slide" Target="slides/slide51.xml"/><Relationship Id="rId70" Type="http://schemas.openxmlformats.org/officeDocument/2006/relationships/slide" Target="slides/slide52.xml"/><Relationship Id="rId71" Type="http://schemas.openxmlformats.org/officeDocument/2006/relationships/slide" Target="slides/slide53.xml"/><Relationship Id="rId72" Type="http://schemas.openxmlformats.org/officeDocument/2006/relationships/slide" Target="slides/slide54.xml"/><Relationship Id="rId73" Type="http://schemas.openxmlformats.org/officeDocument/2006/relationships/slide" Target="slides/slide55.xml"/><Relationship Id="rId74" Type="http://schemas.openxmlformats.org/officeDocument/2006/relationships/slide" Target="slides/slide56.xml"/><Relationship Id="rId75" Type="http://schemas.openxmlformats.org/officeDocument/2006/relationships/slide" Target="slides/slide57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dt" idx="4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ftr" idx="4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 type="sldNum" idx="4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7241-38E5-400C-B164-BBD9CE6385BA}" type="slidenum"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1502-1DB0-4B31-96D4-5746E4344C1D}" type="slidenum">
              <a:rPr b="0" lang="de-CH" sz="1200" spc="-1" strike="noStrike">
                <a:solidFill>
                  <a:srgbClr val="000000"/>
                </a:solidFill>
                <a:latin typeface="Tung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D48568-E5F3-47EB-B362-C36EDE75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2140D2-9D84-4399-93D9-C985265B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8CBA23-1077-476F-A17B-92EFDAA2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AD95EB-D795-46C0-8447-857C7DF1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9105F8-B6DC-4F68-AC28-8EA7F300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876812-456B-4230-AF34-D78B6106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4CF850-049A-4DA6-83EC-3E3F8146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91343F-E3F8-47D3-8F11-F45E6CAF2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B979AA-F8AD-4E1F-A5B9-F7CA5CF63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6922FC-00B0-450E-9BF1-3089CB15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FF8917-E0FA-4C10-8A81-2211B158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0037A7-58EC-4841-BCB2-C4D1B31A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751B85-CE69-42F2-826B-DF6CACBC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ABFADF-79B9-4C95-9656-811BC35B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F30AE5-C1D5-4A0D-B955-7BF9E8E9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FF4137-2EF6-48FC-8CCA-1964AAE2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FCFDDC-AA3A-4EDE-987B-73C402C7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14AC74-A99D-4511-BAD8-B4CB9F41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3034C7-B53B-4417-981B-478C6DB3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9CBF02-68FE-4635-B476-96F7219A8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536C73-137B-4B9F-AE85-5A3A74B8F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311A3BC-3AA0-4F43-8111-3F33779C4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3D54B9A-5967-43DA-99E1-87A3A954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D6FFD06-E0E3-4A92-A14C-F5A835A6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E361A7A-D76C-4D43-987F-3D549559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BB0600C-0FE5-4CE8-B6EA-35B3BD09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0F3CC23-A87F-4F37-BE03-58C4C752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E35CF42-A017-4814-8FC6-4019EFD5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418AF50-DB35-40A8-BA93-A7EFA960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4A5944D-E4CC-42F5-B564-7D3C4150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B3C96-8008-43EF-B00C-986E9D94F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A83193A-A9DB-4C0D-A898-F0B2A896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4220D13-6C7D-4567-8D4F-2D29F4DD9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231FD7-B2A4-4E52-88CA-E87AC6BE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CC740B-4D33-425C-BBA0-77767A64D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5D54A6-BE95-4161-ABF9-562851B3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B0C671-BE19-4B0B-942E-D6F95041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5BC4F6-9851-4E3B-965D-E539B7AC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4474B6-8B13-44AD-B84D-064B7248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5D2F06-7986-4B4B-B665-8903E252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AEEC0D-07DD-4BDE-BC86-0947026B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85E60-B4F5-4274-B3C8-6C26E179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8B39D9-BC19-4A62-9F9D-3F66EA46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65D381-A308-4F41-9D7A-1F4D1C89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A19AB4-78AA-44E0-9190-45D91899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3E1B93-AE10-49F6-9452-5CA7CA5CE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D385EF-C0AA-4A2E-BA96-DD1FA6A02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1BE7D5A-9BFD-4A91-B6EF-FAEADCD8F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D8676AC-41A0-4684-B1E1-F1B0EB05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2A48061-1D6A-433F-B15E-32274185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D5BDE5B-8323-4720-A783-E410C521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EB98DEE-9E65-4B2F-9904-6FCFB891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D07E5-EF43-4A42-97B7-0440E4B0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3BB5AD5-5BDE-42D6-A73C-DDD4E9A1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2139B2C-C479-48FE-BCB5-21B2BD19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D66AC9D-BF63-436F-A955-97957FD5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4AC1705-D4CA-4F09-8EC0-57BA5F9D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7106CFF-36F6-4C04-8C0E-8C2CC813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C3C87AF-A918-4CC1-A34D-8288DE933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98D54F2-F2BB-4DE2-95CA-A55C0E6FE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56D97B0-2D8C-41C3-9E1F-C996E267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60359BA-CE5F-4E72-94D1-CF0FAC98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4992D69-18CF-4819-834D-9C6BF9C5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FEB81-A1B2-4CC5-8931-28C509C5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F5C1469-3785-47D7-A020-DB836635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D9DE791-FA92-4EC1-B53D-A6EE1A6A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9EB9619-47D7-45B7-BB6C-EA92A62C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2F89309-8DD9-420D-9698-EF029288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CCD10FA-3ECE-497C-8C23-F3C7F9F1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41DE052-8A48-4B6B-A02B-93451B94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BC4699B-C7EB-4F78-878E-7AE0AF90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0A49213-D1B9-4793-93A0-9B34EA43D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DA4AADC-433E-49D4-B660-987C6668D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CBCA08C-0A4C-4829-8C6A-05FA29321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42DB7-19A3-4AE9-9DA1-76B49DA5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699EBCE-723B-468C-A792-E164079C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4DD6291-57E2-4F47-AFE2-58115EDF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91A0D7D-4E62-476A-90CB-F6292154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629B19F-9DF7-4F2C-9F46-E79E4616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2D33B01-EE64-4851-BCD2-B6AC4A9B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4F57DC7-A0A5-4F70-ACBE-16215A88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4619C1E-1933-427F-9E2C-1DC1E682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25E8480-7285-4636-B839-E789262D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78CF1FC-2EAE-4667-9C64-41331D13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75C299A-274D-4B5A-9C2E-72C668189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7653E-E93D-4BA8-B61D-21BC999D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80FDF83-226F-4AE8-8BF7-C90D319BA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D8AEE-397D-4383-91DC-A3FB2252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3BE72-B5F6-4661-9920-6F8D50C2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E520F-830A-47E5-8E3B-57D28599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FFD94-DBC1-459D-AD3B-FE22FC38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4825A-6EB0-413A-85D6-766F06F3E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BA22D-3BDE-4F02-B648-F22C87177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49CE95-E25E-43F8-AE14-FCE281B99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044340-678C-4455-AE72-D07DB87E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E5C69E-B518-4FC2-AF56-DED787F8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7FB720-B66C-41BE-960C-BF39DFC5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92DCCF-A5F9-46B8-BA6B-73ABE608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9A2BAA-E779-4468-970E-BC53BD74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20125B-85DB-444B-9B69-D2F521CF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638662-0A15-445C-8A78-ECA79332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72A24B-DE03-4C25-B07D-2E599CF1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3873A4-D41E-4E66-823F-4C17488D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19B44E-BEEE-43CF-990B-CB30D0155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71263C-278C-42DD-B3F2-659C00AAD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6C6AEA-2104-410B-A2DF-C445E59AA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75DF66-CFE2-4B80-A378-BD983379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0FAE35-1296-493C-A094-251A3F15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CEDAE2-6A4B-4873-ADD5-832DDD62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6CAAE8-BFE3-448D-ADB1-D9D4BF5C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009D54-7F97-435E-991F-C1152637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1E66EC-AFF7-44C1-A124-798B287E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89077C-5913-4B0D-9D49-B39A2523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0C71E2-6955-4DCE-B8A9-7F37A9BB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A10A97-77E9-444F-B635-BD9D59B9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479115-3049-48CE-A49E-EFA96CE02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3EA8F5-DB14-4C15-8489-B0409D8CA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EA56E9-0F43-4233-804D-8BC9329F1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2A5313-1B6B-443E-87D5-E87F2D16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0EEEFF-6E7D-47AD-895A-11187205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CB29EB-94F3-4A31-9D69-BDCBA3F9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A8872C-7355-4858-831B-3514DFC8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85B0FE-8683-4FE7-A667-A55D12A8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BA49C3-DE73-4ACF-9BEF-F982705B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D39B19-7300-4A6B-BCF9-4B96C0E3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B99994-B6C2-4687-A051-80CF9DF4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3F4605-500D-4E54-8BB8-3BA5B0FA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600B01-63C1-44D0-B5B3-886F0AAA7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2BA156-DB3C-4C43-A9B5-4E8CE25BF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D2B773-DB60-4F38-9DEC-FEEA57855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659D69-BE9A-4AB6-931C-0BA023C9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BA6C76-397B-49D3-B343-5E7DCAAF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C3E553-50B5-4605-B45D-FA2C1DDE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491886-C5EC-452B-93E4-227EE7FD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4E8E25-25A1-4E7A-8AD3-A06BAC2F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72B5F1-296F-4D44-8041-88E3A4D6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3D2081-E7A7-4B63-8F05-84ECB935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EFE4DD-A36F-41A1-BD87-CB37D7AB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909AF9-B1B4-4737-8626-6E78D2A7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DE189D-9E4B-4EC9-ADCD-83B8D8428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C89581-784D-45F0-B1BA-191E728F7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7BCC42-3F50-4393-B2A7-66595B085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E858A7-E642-4B39-AE8D-E4D34CFB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22A8AD-0762-4E09-A79C-78881B72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8E8156-29A8-4183-A967-31A649ED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6F5725-E882-4DBD-9CC7-5BE6EB9A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7C89F1-A892-49E3-A4E6-AA59D4AC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C3CCBD-1497-479E-B6BD-C3DA11EA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19E757-A4B3-4B1C-8F80-01517F96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7319B4-0341-4EA6-A7A6-E6159483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3D00E7-218F-402C-9CC5-9B140446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2E1BCF-D848-4991-970B-0C8CCCBF3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38A3AA-2EFC-4152-B2EB-9BD1F7A0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7F499B-C6D9-4077-92EA-CBCC64DEB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22C1BE-FCC8-452C-9113-D4FAE4FD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1EB0FE-7D62-45CB-BB43-7E469E9A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28800" y="6356520"/>
            <a:ext cx="308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pic>
        <p:nvPicPr>
          <p:cNvPr id="4" name="Picture 9" descr="C:\Users\dak\Desktop\hep_logo [klein].jpg"/>
          <p:cNvPicPr/>
          <p:nvPr/>
        </p:nvPicPr>
        <p:blipFill>
          <a:blip r:embed="rId2"/>
          <a:stretch/>
        </p:blipFill>
        <p:spPr>
          <a:xfrm>
            <a:off x="114480" y="6286680"/>
            <a:ext cx="155520" cy="483840"/>
          </a:xfrm>
          <a:prstGeom prst="rect">
            <a:avLst/>
          </a:prstGeom>
          <a:ln w="0">
            <a:noFill/>
          </a:ln>
        </p:spPr>
      </p:pic>
      <p:sp>
        <p:nvSpPr>
          <p:cNvPr id="5" name="Text Box 8"/>
          <p:cNvSpPr/>
          <p:nvPr/>
        </p:nvSpPr>
        <p:spPr>
          <a:xfrm>
            <a:off x="214200" y="6572160"/>
            <a:ext cx="385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Frutiger 45 Light"/>
              </a:rPr>
              <a:t>der bildungsverlag </a:t>
            </a:r>
            <a:r>
              <a:rPr b="0" lang="de-CH" sz="1100" spc="-1" strike="noStrike">
                <a:solidFill>
                  <a:srgbClr val="000000"/>
                </a:solidFill>
                <a:latin typeface="Tunga"/>
              </a:rPr>
              <a:t>•</a:t>
            </a:r>
            <a:r>
              <a:rPr b="0" lang="de-CH" sz="900" spc="-1" strike="noStrike">
                <a:solidFill>
                  <a:srgbClr val="000000"/>
                </a:solidFill>
                <a:latin typeface="Frutiger 45 Light"/>
              </a:rPr>
              <a:t> www.hep-verlag.ch</a:t>
            </a:r>
            <a:endParaRPr b="0" lang="en-US" sz="9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5148360" y="6583320"/>
            <a:ext cx="406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Frutiger 45 Light"/>
              </a:rPr>
              <a:t>      </a:t>
            </a:r>
            <a:r>
              <a:rPr b="0" lang="de-CH" sz="900" spc="-1" strike="noStrike">
                <a:solidFill>
                  <a:srgbClr val="000000"/>
                </a:solidFill>
                <a:latin typeface="Frutiger 45 Light"/>
              </a:rPr>
              <a:t>Brunetti </a:t>
            </a:r>
            <a:r>
              <a:rPr b="0" lang="de-CH" sz="1100" spc="-1" strike="noStrike">
                <a:solidFill>
                  <a:srgbClr val="000000"/>
                </a:solidFill>
                <a:latin typeface="Tunga"/>
              </a:rPr>
              <a:t>•</a:t>
            </a:r>
            <a:r>
              <a:rPr b="0" lang="de-CH" sz="11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de-CH" sz="900" spc="-1" strike="noStrike">
                <a:solidFill>
                  <a:srgbClr val="000000"/>
                </a:solidFill>
                <a:latin typeface="Frutiger 45 Light"/>
              </a:rPr>
              <a:t>Volkswirtschaftslehre – Ausgabe 2017 </a:t>
            </a:r>
            <a:r>
              <a:rPr b="0" lang="de-CH" sz="1100" spc="-1" strike="noStrike">
                <a:solidFill>
                  <a:srgbClr val="000000"/>
                </a:solidFill>
                <a:latin typeface="Tunga"/>
              </a:rPr>
              <a:t>•</a:t>
            </a:r>
            <a:r>
              <a:rPr b="0" lang="de-CH" sz="11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de-CH" sz="900" spc="-1" strike="noStrike">
                <a:solidFill>
                  <a:srgbClr val="000000"/>
                </a:solidFill>
                <a:latin typeface="Frutiger 45 Light"/>
              </a:rPr>
              <a:t>978-3-0355-0799-7</a:t>
            </a:r>
            <a:endParaRPr b="0" lang="en-US" sz="900" spc="-1" strike="noStrike">
              <a:solidFill>
                <a:srgbClr val="000000"/>
              </a:solidFill>
              <a:latin typeface="Tunga"/>
            </a:endParaRPr>
          </a:p>
        </p:txBody>
      </p:sp>
      <p:pic>
        <p:nvPicPr>
          <p:cNvPr id="7" name="Picture 9" descr="C:\Users\dak\Desktop\hep_logo [klein].jpg"/>
          <p:cNvPicPr/>
          <p:nvPr/>
        </p:nvPicPr>
        <p:blipFill>
          <a:blip r:embed="rId3"/>
          <a:stretch/>
        </p:blipFill>
        <p:spPr>
          <a:xfrm>
            <a:off x="114480" y="6286680"/>
            <a:ext cx="155520" cy="483840"/>
          </a:xfrm>
          <a:prstGeom prst="rect">
            <a:avLst/>
          </a:prstGeom>
          <a:ln w="0">
            <a:noFill/>
          </a:ln>
        </p:spPr>
      </p:pic>
      <p:sp>
        <p:nvSpPr>
          <p:cNvPr id="8" name="Text Box 8"/>
          <p:cNvSpPr/>
          <p:nvPr/>
        </p:nvSpPr>
        <p:spPr>
          <a:xfrm>
            <a:off x="214200" y="6572160"/>
            <a:ext cx="385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Frutiger 45 Light"/>
              </a:rPr>
              <a:t>der bildungsverlag </a:t>
            </a:r>
            <a:r>
              <a:rPr b="0" lang="de-CH" sz="1100" spc="-1" strike="noStrike">
                <a:solidFill>
                  <a:srgbClr val="000000"/>
                </a:solidFill>
                <a:latin typeface="Tunga"/>
              </a:rPr>
              <a:t>•</a:t>
            </a:r>
            <a:r>
              <a:rPr b="0" lang="de-CH" sz="900" spc="-1" strike="noStrike">
                <a:solidFill>
                  <a:srgbClr val="000000"/>
                </a:solidFill>
                <a:latin typeface="Frutiger 45 Light"/>
              </a:rPr>
              <a:t> www.hep-verlag.ch</a:t>
            </a:r>
            <a:endParaRPr b="0" lang="en-US" sz="9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7"/>
          </p:nvPr>
        </p:nvSpPr>
        <p:spPr>
          <a:xfrm>
            <a:off x="5428800" y="6356520"/>
            <a:ext cx="308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C11C-F08C-4ACD-842B-8BD0661BD08B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30"/>
          </p:nvPr>
        </p:nvSpPr>
        <p:spPr>
          <a:xfrm>
            <a:off x="5428800" y="6356520"/>
            <a:ext cx="308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9151-9E13-45EC-A5E9-771FC5AB5B12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3"/>
          </p:nvPr>
        </p:nvSpPr>
        <p:spPr>
          <a:xfrm>
            <a:off x="5428800" y="6356520"/>
            <a:ext cx="308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ADEB-ADA4-449E-AC71-86A27A837C39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6"/>
          </p:nvPr>
        </p:nvSpPr>
        <p:spPr>
          <a:xfrm>
            <a:off x="5428800" y="6356520"/>
            <a:ext cx="308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B844-14B5-4F83-8DCC-B3B0D77DD952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3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39"/>
          </p:nvPr>
        </p:nvSpPr>
        <p:spPr>
          <a:xfrm>
            <a:off x="5428800" y="6356520"/>
            <a:ext cx="308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4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166D-32EC-4699-90CC-DDA5943AD458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4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42"/>
          </p:nvPr>
        </p:nvSpPr>
        <p:spPr>
          <a:xfrm>
            <a:off x="5428800" y="6356520"/>
            <a:ext cx="308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4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1D64-84FF-4E6D-8CFC-DF3646278E7D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E775-1DAA-4AD5-92D7-EA18EDA71DF5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7"/>
          </p:nvPr>
        </p:nvSpPr>
        <p:spPr>
          <a:xfrm>
            <a:off x="6457680" y="617328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DB55-73FD-489F-80A2-8A81C48F60C0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5428800" y="6032520"/>
            <a:ext cx="308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0"/>
          </p:nvPr>
        </p:nvSpPr>
        <p:spPr>
          <a:xfrm>
            <a:off x="5428800" y="6356520"/>
            <a:ext cx="308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3374-1CBA-4B3E-84C7-60AC227AEC42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3"/>
          </p:nvPr>
        </p:nvSpPr>
        <p:spPr>
          <a:xfrm>
            <a:off x="5428800" y="6356520"/>
            <a:ext cx="308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AC39-4CD2-4DA8-98BA-20BF5E528D4A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6"/>
          </p:nvPr>
        </p:nvSpPr>
        <p:spPr>
          <a:xfrm>
            <a:off x="5428800" y="6356520"/>
            <a:ext cx="308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1B90-6DAB-45ED-8141-D83D9109F585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9"/>
          </p:nvPr>
        </p:nvSpPr>
        <p:spPr>
          <a:xfrm>
            <a:off x="5428800" y="6356520"/>
            <a:ext cx="308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2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4836-1D89-4519-A4AC-BB567C830DA6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2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2"/>
          </p:nvPr>
        </p:nvSpPr>
        <p:spPr>
          <a:xfrm>
            <a:off x="5428800" y="6356520"/>
            <a:ext cx="308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9" descr="C:\Users\dak\Desktop\hep_logo [klein].jpg"/>
          <p:cNvPicPr/>
          <p:nvPr/>
        </p:nvPicPr>
        <p:blipFill>
          <a:blip r:embed="rId2"/>
          <a:stretch/>
        </p:blipFill>
        <p:spPr>
          <a:xfrm>
            <a:off x="114480" y="6286680"/>
            <a:ext cx="155520" cy="48384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8"/>
          <p:cNvSpPr/>
          <p:nvPr/>
        </p:nvSpPr>
        <p:spPr>
          <a:xfrm>
            <a:off x="214200" y="6572160"/>
            <a:ext cx="385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Frutiger 45 Light"/>
              </a:rPr>
              <a:t>der bildungsverlag </a:t>
            </a:r>
            <a:r>
              <a:rPr b="0" lang="de-CH" sz="1100" spc="-1" strike="noStrike">
                <a:solidFill>
                  <a:srgbClr val="000000"/>
                </a:solidFill>
                <a:latin typeface="Tunga"/>
              </a:rPr>
              <a:t>•</a:t>
            </a:r>
            <a:r>
              <a:rPr b="0" lang="de-CH" sz="900" spc="-1" strike="noStrike">
                <a:solidFill>
                  <a:srgbClr val="000000"/>
                </a:solidFill>
                <a:latin typeface="Frutiger 45 Light"/>
              </a:rPr>
              <a:t> www.hep-verlag.ch</a:t>
            </a:r>
            <a:endParaRPr b="0" lang="en-US" sz="900" spc="-1" strike="noStrike">
              <a:solidFill>
                <a:srgbClr val="000000"/>
              </a:solidFill>
              <a:latin typeface="Tunga"/>
            </a:endParaRPr>
          </a:p>
        </p:txBody>
      </p:sp>
      <p:pic>
        <p:nvPicPr>
          <p:cNvPr id="333" name="Picture 9" descr="C:\Users\dak\Desktop\hep_logo [klein].jpg"/>
          <p:cNvPicPr/>
          <p:nvPr/>
        </p:nvPicPr>
        <p:blipFill>
          <a:blip r:embed="rId3"/>
          <a:stretch/>
        </p:blipFill>
        <p:spPr>
          <a:xfrm>
            <a:off x="114480" y="6286680"/>
            <a:ext cx="155520" cy="48384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8"/>
          <p:cNvSpPr/>
          <p:nvPr/>
        </p:nvSpPr>
        <p:spPr>
          <a:xfrm>
            <a:off x="214200" y="6572160"/>
            <a:ext cx="385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Frutiger 45 Light"/>
              </a:rPr>
              <a:t>der bildungsverlag </a:t>
            </a:r>
            <a:r>
              <a:rPr b="0" lang="de-CH" sz="1100" spc="-1" strike="noStrike">
                <a:solidFill>
                  <a:srgbClr val="000000"/>
                </a:solidFill>
                <a:latin typeface="Tunga"/>
              </a:rPr>
              <a:t>•</a:t>
            </a:r>
            <a:r>
              <a:rPr b="0" lang="de-CH" sz="900" spc="-1" strike="noStrike">
                <a:solidFill>
                  <a:srgbClr val="000000"/>
                </a:solidFill>
                <a:latin typeface="Frutiger 45 Light"/>
              </a:rPr>
              <a:t> www.hep-verlag.ch</a:t>
            </a:r>
            <a:endParaRPr b="0" lang="en-US" sz="9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4"/>
          </p:nvPr>
        </p:nvSpPr>
        <p:spPr>
          <a:xfrm>
            <a:off x="5428800" y="6356520"/>
            <a:ext cx="308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9380-79C0-4CDE-A593-BC2805F0CF79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9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9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CH" sz="4500" spc="-1" strike="noStrike">
                <a:solidFill>
                  <a:srgbClr val="000000"/>
                </a:solidFill>
                <a:latin typeface="Calibri"/>
              </a:rPr>
              <a:t>Croissance et conjoncture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 Box 9"/>
          <p:cNvSpPr/>
          <p:nvPr/>
        </p:nvSpPr>
        <p:spPr>
          <a:xfrm>
            <a:off x="1509120" y="5445000"/>
            <a:ext cx="57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« Quoi, tu as deux pierres ? 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L’économie est en croissance ! »</a:t>
            </a: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pic>
        <p:nvPicPr>
          <p:cNvPr id="669" name="Picture 7" descr="wirtschaftswachstum_klein"/>
          <p:cNvPicPr/>
          <p:nvPr/>
        </p:nvPicPr>
        <p:blipFill>
          <a:blip r:embed="rId1"/>
          <a:stretch/>
        </p:blipFill>
        <p:spPr>
          <a:xfrm>
            <a:off x="324000" y="2492280"/>
            <a:ext cx="8146800" cy="2476440"/>
          </a:xfrm>
          <a:prstGeom prst="rect">
            <a:avLst/>
          </a:prstGeom>
          <a:ln w="0">
            <a:noFill/>
          </a:ln>
        </p:spPr>
      </p:pic>
      <p:sp>
        <p:nvSpPr>
          <p:cNvPr id="670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71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 Box 6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18" name="Text Box 7"/>
          <p:cNvSpPr/>
          <p:nvPr/>
        </p:nvSpPr>
        <p:spPr>
          <a:xfrm>
            <a:off x="324000" y="1197000"/>
            <a:ext cx="8391240" cy="459720"/>
          </a:xfrm>
          <a:prstGeom prst="rect">
            <a:avLst/>
          </a:prstGeom>
          <a:solidFill>
            <a:srgbClr val="7193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2. L’optique des dépenses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19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1. Mesurer la prospérité économiqu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20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grpSp>
        <p:nvGrpSpPr>
          <p:cNvPr id="721" name="Groupe 5"/>
          <p:cNvGrpSpPr/>
          <p:nvPr/>
        </p:nvGrpSpPr>
        <p:grpSpPr>
          <a:xfrm>
            <a:off x="1103400" y="2205000"/>
            <a:ext cx="6937200" cy="3733920"/>
            <a:chOff x="1103400" y="2205000"/>
            <a:chExt cx="6937200" cy="3733920"/>
          </a:xfrm>
        </p:grpSpPr>
        <p:pic>
          <p:nvPicPr>
            <p:cNvPr id="722" name="Image 2" descr=""/>
            <p:cNvPicPr/>
            <p:nvPr/>
          </p:nvPicPr>
          <p:blipFill>
            <a:blip r:embed="rId1"/>
            <a:stretch/>
          </p:blipFill>
          <p:spPr>
            <a:xfrm>
              <a:off x="4066200" y="2205000"/>
              <a:ext cx="3974400" cy="373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Image 4" descr=""/>
            <p:cNvPicPr/>
            <p:nvPr/>
          </p:nvPicPr>
          <p:blipFill>
            <a:blip r:embed="rId2"/>
            <a:stretch/>
          </p:blipFill>
          <p:spPr>
            <a:xfrm>
              <a:off x="1103400" y="2205000"/>
              <a:ext cx="2974320" cy="3733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6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25" name="Text Box 7"/>
          <p:cNvSpPr/>
          <p:nvPr/>
        </p:nvSpPr>
        <p:spPr>
          <a:xfrm>
            <a:off x="324000" y="1197000"/>
            <a:ext cx="8391240" cy="459720"/>
          </a:xfrm>
          <a:prstGeom prst="rect">
            <a:avLst/>
          </a:prstGeom>
          <a:solidFill>
            <a:srgbClr val="7193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3. L’optique des revenus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26" name="Text Box 8"/>
          <p:cNvSpPr/>
          <p:nvPr/>
        </p:nvSpPr>
        <p:spPr>
          <a:xfrm>
            <a:off x="395280" y="2492280"/>
            <a:ext cx="829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alcul du PIB sous l’angle des revenus liés à la valeur ajoutée créée (bénéfices des entreprises et rémunérations des employés)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27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1. Mesurer la prospérité économiqu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28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 Box 6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30" name="Text Box 7"/>
          <p:cNvSpPr/>
          <p:nvPr/>
        </p:nvSpPr>
        <p:spPr>
          <a:xfrm>
            <a:off x="324000" y="1197000"/>
            <a:ext cx="8391240" cy="459720"/>
          </a:xfrm>
          <a:prstGeom prst="rect">
            <a:avLst/>
          </a:prstGeom>
          <a:solidFill>
            <a:srgbClr val="7193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3. L’optique des revenus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31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1. Mesurer la prospérité économiqu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32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grpSp>
        <p:nvGrpSpPr>
          <p:cNvPr id="733" name="Groupe 3"/>
          <p:cNvGrpSpPr/>
          <p:nvPr/>
        </p:nvGrpSpPr>
        <p:grpSpPr>
          <a:xfrm>
            <a:off x="919080" y="2205000"/>
            <a:ext cx="7553520" cy="3676680"/>
            <a:chOff x="919080" y="2205000"/>
            <a:chExt cx="7553520" cy="3676680"/>
          </a:xfrm>
        </p:grpSpPr>
        <p:pic>
          <p:nvPicPr>
            <p:cNvPr id="734" name="Image 2" descr=""/>
            <p:cNvPicPr/>
            <p:nvPr/>
          </p:nvPicPr>
          <p:blipFill>
            <a:blip r:embed="rId1"/>
            <a:stretch/>
          </p:blipFill>
          <p:spPr>
            <a:xfrm>
              <a:off x="3983400" y="2205000"/>
              <a:ext cx="4489200" cy="367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5" name="Image 2" descr=""/>
            <p:cNvPicPr/>
            <p:nvPr/>
          </p:nvPicPr>
          <p:blipFill>
            <a:blip r:embed="rId2"/>
            <a:stretch/>
          </p:blipFill>
          <p:spPr>
            <a:xfrm>
              <a:off x="919080" y="2205000"/>
              <a:ext cx="3168360" cy="3676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6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37" name="Text Box 7"/>
          <p:cNvSpPr/>
          <p:nvPr/>
        </p:nvSpPr>
        <p:spPr>
          <a:xfrm>
            <a:off x="322200" y="1751040"/>
            <a:ext cx="8393040" cy="2654280"/>
          </a:xfrm>
          <a:prstGeom prst="rect">
            <a:avLst/>
          </a:prstGeom>
          <a:solidFill>
            <a:srgbClr val="7193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Problème du PIB pour mesurer la prospérité :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Ne mesure que la valeur créée sur un marché (travail domestique non mesuré)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Ne mesure pas les pertes de valeur préalables (p.ex. accident de voiture)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38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1. Mesurer la prospérité économiqu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39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Text Box 6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41" name="Text Box 8"/>
          <p:cNvSpPr/>
          <p:nvPr/>
        </p:nvSpPr>
        <p:spPr>
          <a:xfrm>
            <a:off x="322200" y="1785960"/>
            <a:ext cx="8393040" cy="2288520"/>
          </a:xfrm>
          <a:prstGeom prst="rect">
            <a:avLst/>
          </a:prstGeom>
          <a:solidFill>
            <a:srgbClr val="7193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Principaux avantages du PIB :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1.  Mesure standardisé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2.  Comparaison international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42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1. Mesurer la prospérité économiqu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43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Text Box 7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45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46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47" name="Text Box 10"/>
          <p:cNvSpPr/>
          <p:nvPr/>
        </p:nvSpPr>
        <p:spPr>
          <a:xfrm>
            <a:off x="324000" y="1111320"/>
            <a:ext cx="829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Structure du chapitre :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Mesurer la prospérité économiqu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2b53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b53a0"/>
                </a:solidFill>
                <a:latin typeface="Calibri"/>
              </a:rPr>
              <a:t>Croissance : tendance à long term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Politique de croissanc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njoncture : variations à court term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Politique conjoncturelle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politique de croissance et la politique conjoncturelle de la Suisse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Text Box 4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49" name="Text Box 7"/>
          <p:cNvSpPr/>
          <p:nvPr/>
        </p:nvSpPr>
        <p:spPr>
          <a:xfrm>
            <a:off x="324000" y="1197000"/>
            <a:ext cx="829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es taux de croissance à long terme sont décisifs pour la prospérité d’un État.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De petites différences dans les taux de croissances induisent, à terme, de grandes différences en raison de l’</a:t>
            </a:r>
            <a:r>
              <a:rPr b="0" i="1" lang="de-CH" sz="2400" spc="-1" strike="noStrike">
                <a:solidFill>
                  <a:srgbClr val="000000"/>
                </a:solidFill>
                <a:latin typeface="Calibri"/>
              </a:rPr>
              <a:t>intérêt composé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50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51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Croissance : tendance à long term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52" name="Text Box 9"/>
          <p:cNvSpPr/>
          <p:nvPr/>
        </p:nvSpPr>
        <p:spPr>
          <a:xfrm>
            <a:off x="333360" y="4367160"/>
            <a:ext cx="8280360" cy="1191240"/>
          </a:xfrm>
          <a:prstGeom prst="rect">
            <a:avLst/>
          </a:prstGeom>
          <a:solidFill>
            <a:srgbClr val="c0c0c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de-CH" sz="2400" spc="-1" strike="noStrike">
                <a:solidFill>
                  <a:srgbClr val="000000"/>
                </a:solidFill>
                <a:latin typeface="Calibri"/>
              </a:rPr>
              <a:t>Intérêt composé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térêt payé sur les intérêts qui ont été perçus et incorporés au capital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 Box 4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54" name="Text Box 7"/>
          <p:cNvSpPr/>
          <p:nvPr/>
        </p:nvSpPr>
        <p:spPr>
          <a:xfrm>
            <a:off x="324000" y="928800"/>
            <a:ext cx="829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De petites différences dans les taux de croissances induisent, à terme, de grandes différences :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55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56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Croissance : tendance à long term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grpSp>
        <p:nvGrpSpPr>
          <p:cNvPr id="757" name="Groupe 3"/>
          <p:cNvGrpSpPr/>
          <p:nvPr/>
        </p:nvGrpSpPr>
        <p:grpSpPr>
          <a:xfrm>
            <a:off x="419040" y="1893960"/>
            <a:ext cx="7916760" cy="4489200"/>
            <a:chOff x="419040" y="1893960"/>
            <a:chExt cx="7916760" cy="4489200"/>
          </a:xfrm>
        </p:grpSpPr>
        <p:pic>
          <p:nvPicPr>
            <p:cNvPr id="758" name="Image 1" descr=""/>
            <p:cNvPicPr/>
            <p:nvPr/>
          </p:nvPicPr>
          <p:blipFill>
            <a:blip r:embed="rId1"/>
            <a:stretch/>
          </p:blipFill>
          <p:spPr>
            <a:xfrm>
              <a:off x="419040" y="1893960"/>
              <a:ext cx="7916760" cy="44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Rectangle 2"/>
            <p:cNvSpPr/>
            <p:nvPr/>
          </p:nvSpPr>
          <p:spPr>
            <a:xfrm>
              <a:off x="539640" y="1987560"/>
              <a:ext cx="987120" cy="183960"/>
            </a:xfrm>
            <a:prstGeom prst="rect">
              <a:avLst/>
            </a:prstGeom>
            <a:solidFill>
              <a:srgbClr val="e9ea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ung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Text Box 4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61" name="Text Box 7"/>
          <p:cNvSpPr/>
          <p:nvPr/>
        </p:nvSpPr>
        <p:spPr>
          <a:xfrm>
            <a:off x="324000" y="1052640"/>
            <a:ext cx="829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De petites différences dans les taux de croissances induisent, à terme, de grandes différences (données du graphique)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62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63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Croissance : tendance à long term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64" name="Text Box 9"/>
          <p:cNvSpPr/>
          <p:nvPr/>
        </p:nvSpPr>
        <p:spPr>
          <a:xfrm>
            <a:off x="395280" y="2276640"/>
            <a:ext cx="8299440" cy="1557000"/>
          </a:xfrm>
          <a:prstGeom prst="rect">
            <a:avLst/>
          </a:prstGeom>
          <a:solidFill>
            <a:srgbClr val="7193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Croissance moyenne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par année de 1820 à nos jours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USA :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1,7 %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Japon :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1,9 %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Bangladesh :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0,6 %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Text Box 4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66" name="Text Box 7"/>
          <p:cNvSpPr/>
          <p:nvPr/>
        </p:nvSpPr>
        <p:spPr>
          <a:xfrm>
            <a:off x="250920" y="981000"/>
            <a:ext cx="829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Deux sources possibles de la croissance :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Effectuer plus d’heures de travail (plus de personnes travaillent ou chaque personne travaille plus d’heures) ;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Produire plus par heure de travail effectuée.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68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Croissance : tendance à long term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pic>
        <p:nvPicPr>
          <p:cNvPr id="769" name="Image 2" descr=""/>
          <p:cNvPicPr/>
          <p:nvPr/>
        </p:nvPicPr>
        <p:blipFill>
          <a:blip r:embed="rId1"/>
          <a:stretch/>
        </p:blipFill>
        <p:spPr>
          <a:xfrm>
            <a:off x="720720" y="2746440"/>
            <a:ext cx="7359480" cy="37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11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73" name="Text Box 12"/>
          <p:cNvSpPr/>
          <p:nvPr/>
        </p:nvSpPr>
        <p:spPr>
          <a:xfrm>
            <a:off x="2124000" y="1073160"/>
            <a:ext cx="60008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Calibri"/>
              </a:rPr>
              <a:t>« L’effet de la croissance sur la prospérité des individus est tout simplement incroyable. Une fois qu’on commence à étudier cette question, il devient difficile de s’intéresser à autre chose. »</a:t>
            </a:r>
            <a:endParaRPr b="0" lang="en-US" sz="22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Robert Lucas, économiste américain (*1937)</a:t>
            </a: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74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75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pic>
        <p:nvPicPr>
          <p:cNvPr id="676" name="Picture 9" descr="F:\hep\PP-Folien\Kapitel 3\robert lucas.jpg"/>
          <p:cNvPicPr/>
          <p:nvPr/>
        </p:nvPicPr>
        <p:blipFill>
          <a:blip r:embed="rId1"/>
          <a:stretch/>
        </p:blipFill>
        <p:spPr>
          <a:xfrm>
            <a:off x="322200" y="1073160"/>
            <a:ext cx="142884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 Box 4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71" name="Text Box 7"/>
          <p:cNvSpPr/>
          <p:nvPr/>
        </p:nvSpPr>
        <p:spPr>
          <a:xfrm>
            <a:off x="324000" y="907920"/>
            <a:ext cx="829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enforcer les investissements, c’est-à-dire augmenter le capital réel, peut accroître la productivité du travail et stimuler la croissance.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Concrètement cela intervient 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Si les travailleurs sont mieux formés (éducation) ;</a:t>
            </a:r>
            <a:br>
              <a:rPr sz="2400"/>
            </a:b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Si le savoir-faire est plus important (avancée technique)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72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73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Croissance : tendance à long term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Text Box 4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75" name="Text Box 7"/>
          <p:cNvSpPr/>
          <p:nvPr/>
        </p:nvSpPr>
        <p:spPr>
          <a:xfrm>
            <a:off x="324000" y="1260360"/>
            <a:ext cx="829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e progrès technique, plus que le travail et le capital, est le facteur le plus important pour la croissance tendantielle.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Pourquoi ? Le travail et le capital sont limités, au contraire du progrès technique qui peut fondamentalement toujours croître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Grâce au progrès technique, l’humain trouvera toujours de nouvelles manières de combiner les ressources pour créer de la valeur.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76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77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Croissance : tendance à long term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Text Box 4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79" name="Text Box 7"/>
          <p:cNvSpPr/>
          <p:nvPr/>
        </p:nvSpPr>
        <p:spPr>
          <a:xfrm>
            <a:off x="324000" y="907920"/>
            <a:ext cx="829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Exemple concret avec la matière première 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oxyde de fer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pic>
        <p:nvPicPr>
          <p:cNvPr id="780" name="Picture 10" descr="Lascaux"/>
          <p:cNvPicPr/>
          <p:nvPr/>
        </p:nvPicPr>
        <p:blipFill>
          <a:blip r:embed="rId1"/>
          <a:stretch/>
        </p:blipFill>
        <p:spPr>
          <a:xfrm>
            <a:off x="755640" y="1557360"/>
            <a:ext cx="2160720" cy="147960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12" descr="stahl"/>
          <p:cNvPicPr/>
          <p:nvPr/>
        </p:nvPicPr>
        <p:blipFill>
          <a:blip r:embed="rId2"/>
          <a:stretch/>
        </p:blipFill>
        <p:spPr>
          <a:xfrm>
            <a:off x="755640" y="3295800"/>
            <a:ext cx="2160720" cy="1285560"/>
          </a:xfrm>
          <a:prstGeom prst="rect">
            <a:avLst/>
          </a:prstGeom>
          <a:ln w="0">
            <a:noFill/>
          </a:ln>
        </p:spPr>
      </p:pic>
      <p:sp>
        <p:nvSpPr>
          <p:cNvPr id="782" name="Text Box 15"/>
          <p:cNvSpPr/>
          <p:nvPr/>
        </p:nvSpPr>
        <p:spPr>
          <a:xfrm>
            <a:off x="3708360" y="1484280"/>
            <a:ext cx="397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env. 14 000 av. J.-C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’oxyde de fer comme couleur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83" name="Text Box 16"/>
          <p:cNvSpPr/>
          <p:nvPr/>
        </p:nvSpPr>
        <p:spPr>
          <a:xfrm>
            <a:off x="3708360" y="324648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1740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Première production d’acier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pic>
        <p:nvPicPr>
          <p:cNvPr id="784" name="Picture 18" descr="Floppy_disk_5"/>
          <p:cNvPicPr/>
          <p:nvPr/>
        </p:nvPicPr>
        <p:blipFill>
          <a:blip r:embed="rId3"/>
          <a:stretch/>
        </p:blipFill>
        <p:spPr>
          <a:xfrm>
            <a:off x="755640" y="4795920"/>
            <a:ext cx="2160720" cy="1297080"/>
          </a:xfrm>
          <a:prstGeom prst="rect">
            <a:avLst/>
          </a:prstGeom>
          <a:ln w="0">
            <a:noFill/>
          </a:ln>
        </p:spPr>
      </p:pic>
      <p:sp>
        <p:nvSpPr>
          <p:cNvPr id="785" name="Text Box 19"/>
          <p:cNvSpPr/>
          <p:nvPr/>
        </p:nvSpPr>
        <p:spPr>
          <a:xfrm>
            <a:off x="3708360" y="4749840"/>
            <a:ext cx="43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1969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’oxyde de fer dans les bandes magnétiques des disquettes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86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87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Croissance : tendance à long term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4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89" name="Text Box 7"/>
          <p:cNvSpPr/>
          <p:nvPr/>
        </p:nvSpPr>
        <p:spPr>
          <a:xfrm>
            <a:off x="324000" y="950760"/>
            <a:ext cx="829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a croissance va toujours de pair avec un </a:t>
            </a:r>
            <a:r>
              <a:rPr b="0" i="1" lang="de-CH" sz="2400" spc="-1" strike="noStrike">
                <a:solidFill>
                  <a:srgbClr val="000000"/>
                </a:solidFill>
                <a:latin typeface="Calibri"/>
              </a:rPr>
              <a:t>changement structurel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90" name="Text Box 15"/>
          <p:cNvSpPr/>
          <p:nvPr/>
        </p:nvSpPr>
        <p:spPr>
          <a:xfrm>
            <a:off x="395280" y="2133720"/>
            <a:ext cx="8280360" cy="1557000"/>
          </a:xfrm>
          <a:prstGeom prst="rect">
            <a:avLst/>
          </a:prstGeom>
          <a:solidFill>
            <a:srgbClr val="c0c0c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de-CH" sz="2400" spc="-1" strike="noStrike">
                <a:solidFill>
                  <a:srgbClr val="000000"/>
                </a:solidFill>
                <a:latin typeface="Calibri"/>
              </a:rPr>
              <a:t>Changement structurel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odification de la structure économique d’un pays, et notamment de l’importance relative des différents secteurs de l’économie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91" name="Text Box 17"/>
          <p:cNvSpPr/>
          <p:nvPr/>
        </p:nvSpPr>
        <p:spPr>
          <a:xfrm>
            <a:off x="395280" y="4076640"/>
            <a:ext cx="829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Un changement structurel est souvent douloureux pour les personnes concernées (changement de poste, formation continue, etc.)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Un changement structuel peut éventuellement être retardé par des politiques coûteuses, mais pas empêché. 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92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93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Croissance : tendance à long term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Text Box 4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95" name="Text Box 7"/>
          <p:cNvSpPr/>
          <p:nvPr/>
        </p:nvSpPr>
        <p:spPr>
          <a:xfrm>
            <a:off x="324000" y="1052640"/>
            <a:ext cx="829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Changement structurel en Suiss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96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97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Croissance : tendance à long term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pic>
        <p:nvPicPr>
          <p:cNvPr id="798" name="Image 3" descr=""/>
          <p:cNvPicPr/>
          <p:nvPr/>
        </p:nvPicPr>
        <p:blipFill>
          <a:blip r:embed="rId1"/>
          <a:stretch/>
        </p:blipFill>
        <p:spPr>
          <a:xfrm>
            <a:off x="312840" y="1868400"/>
            <a:ext cx="849780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7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00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01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02" name="Text Box 10"/>
          <p:cNvSpPr/>
          <p:nvPr/>
        </p:nvSpPr>
        <p:spPr>
          <a:xfrm>
            <a:off x="422280" y="1255680"/>
            <a:ext cx="829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Structure du chapitre :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Mesurer la prospérité économiqu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roissance : tendance à long term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2b53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b53a0"/>
                </a:solidFill>
                <a:latin typeface="Calibri"/>
              </a:rPr>
              <a:t>Politique de croissanc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njoncture : variations à court term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Politique conjoncturelle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politique de croissance et la politique conjoncturelle de la Suisse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Text Box 4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04" name="Text Box 7"/>
          <p:cNvSpPr/>
          <p:nvPr/>
        </p:nvSpPr>
        <p:spPr>
          <a:xfrm>
            <a:off x="324000" y="9507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a croissance à long terme est déterminée par de nombreux facteurs, eux-mêmes plus ou moins influencables par les politiques publique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05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06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1" lang="de-DE" sz="2400" spc="-1" strike="noStrike">
                <a:solidFill>
                  <a:srgbClr val="ffffff"/>
                </a:solidFill>
                <a:latin typeface="Calibri"/>
              </a:rPr>
              <a:t>Politique de croissanc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pic>
        <p:nvPicPr>
          <p:cNvPr id="807" name="Image 1" descr=""/>
          <p:cNvPicPr/>
          <p:nvPr/>
        </p:nvPicPr>
        <p:blipFill>
          <a:blip r:embed="rId1"/>
          <a:stretch/>
        </p:blipFill>
        <p:spPr>
          <a:xfrm>
            <a:off x="179280" y="2085840"/>
            <a:ext cx="9144000" cy="3354480"/>
          </a:xfrm>
          <a:prstGeom prst="rect">
            <a:avLst/>
          </a:prstGeom>
          <a:ln w="0">
            <a:noFill/>
          </a:ln>
        </p:spPr>
      </p:pic>
      <p:sp>
        <p:nvSpPr>
          <p:cNvPr id="808" name="Text Box 20"/>
          <p:cNvSpPr/>
          <p:nvPr/>
        </p:nvSpPr>
        <p:spPr>
          <a:xfrm>
            <a:off x="3257640" y="5440320"/>
            <a:ext cx="2747880" cy="337320"/>
          </a:xfrm>
          <a:prstGeom prst="rect">
            <a:avLst/>
          </a:prstGeom>
          <a:solidFill>
            <a:srgbClr val="ffcc0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alibri"/>
              </a:rPr>
              <a:t>[Suite…]</a:t>
            </a:r>
            <a:endParaRPr b="0" lang="en-US" sz="16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4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10" name="Text Box 7"/>
          <p:cNvSpPr/>
          <p:nvPr/>
        </p:nvSpPr>
        <p:spPr>
          <a:xfrm>
            <a:off x="324000" y="950760"/>
            <a:ext cx="842472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À court terme, les deux sources de croissances peuvent être influencées par les moyens suivants :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Emploi : politique de l’emploi et politique sociale ;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Productivité du travail : poltique de la concurrence, politique extérieure, politique budgétaire, politique de la formation et de la recherche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11" name="Text Box 12"/>
          <p:cNvSpPr/>
          <p:nvPr/>
        </p:nvSpPr>
        <p:spPr>
          <a:xfrm>
            <a:off x="468360" y="494172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12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13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1" lang="de-DE" sz="2400" spc="-1" strike="noStrike">
                <a:solidFill>
                  <a:srgbClr val="ffffff"/>
                </a:solidFill>
                <a:latin typeface="Calibri"/>
              </a:rPr>
              <a:t>Politique de croissanc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14" name="Text Box 20"/>
          <p:cNvSpPr/>
          <p:nvPr/>
        </p:nvSpPr>
        <p:spPr>
          <a:xfrm>
            <a:off x="1258920" y="4005360"/>
            <a:ext cx="2089080" cy="580680"/>
          </a:xfrm>
          <a:prstGeom prst="rect">
            <a:avLst/>
          </a:prstGeom>
          <a:solidFill>
            <a:srgbClr val="ffcc0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alibri"/>
              </a:rPr>
              <a:t>Heures de travail (emploi)</a:t>
            </a:r>
            <a:endParaRPr b="0" lang="en-US" sz="16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15" name="Text Box 20"/>
          <p:cNvSpPr/>
          <p:nvPr/>
        </p:nvSpPr>
        <p:spPr>
          <a:xfrm>
            <a:off x="3780000" y="4005360"/>
            <a:ext cx="2160360" cy="580680"/>
          </a:xfrm>
          <a:prstGeom prst="rect">
            <a:avLst/>
          </a:prstGeom>
          <a:solidFill>
            <a:srgbClr val="ffcc0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alibri"/>
              </a:rPr>
              <a:t>Productivité du travail</a:t>
            </a:r>
            <a:endParaRPr b="0" lang="en-US" sz="1600" spc="-1" strike="noStrike">
              <a:solidFill>
                <a:srgbClr val="000000"/>
              </a:solidFill>
              <a:latin typeface="Tun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unga"/>
            </a:endParaRPr>
          </a:p>
        </p:txBody>
      </p:sp>
      <p:pic>
        <p:nvPicPr>
          <p:cNvPr id="816" name="Image 1" descr=""/>
          <p:cNvPicPr/>
          <p:nvPr/>
        </p:nvPicPr>
        <p:blipFill>
          <a:blip r:embed="rId1"/>
          <a:stretch/>
        </p:blipFill>
        <p:spPr>
          <a:xfrm>
            <a:off x="1224000" y="4586400"/>
            <a:ext cx="669600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ext Box 4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18" name="Text Box 7"/>
          <p:cNvSpPr/>
          <p:nvPr/>
        </p:nvSpPr>
        <p:spPr>
          <a:xfrm>
            <a:off x="324000" y="1000080"/>
            <a:ext cx="8424720" cy="59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Perspectives de croissance des pays en développement :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Des réalités géographiques peuvent freiner la croissance, mais ne sont pas décisive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es principaux problèmes dans les pays en développement sont la propriété privée et le droit contractuel manquants, la corruption et l’instabilité. </a:t>
            </a:r>
            <a:r>
              <a:rPr b="0" lang="de-C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Ces facteurs sont modulables à long terme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a globalisation est une chance pour les pays en développement.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Dès que ces critères sont plus ou moins remplis, la croissance peut survenir via une ouverture du marché (p.ex. Corée du Sud)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19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20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1" lang="de-DE" sz="2400" spc="-1" strike="noStrike">
                <a:solidFill>
                  <a:srgbClr val="ffffff"/>
                </a:solidFill>
                <a:latin typeface="Calibri"/>
              </a:rPr>
              <a:t>Politique de croissanc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Text Box 7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22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23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24" name="Text Box 10"/>
          <p:cNvSpPr/>
          <p:nvPr/>
        </p:nvSpPr>
        <p:spPr>
          <a:xfrm>
            <a:off x="422280" y="1255680"/>
            <a:ext cx="829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Structure du chapitre :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Mesurer la prospérité économiqu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roissance : tendance à long term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Politique de croissanc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2b53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b53a0"/>
                </a:solidFill>
                <a:latin typeface="Calibri"/>
              </a:rPr>
              <a:t>Conjoncture : variations à court term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Politique conjoncturelle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politique de croissance et la politique conjoncturelle de la Suisse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7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78" name="Text Box 10"/>
          <p:cNvSpPr/>
          <p:nvPr/>
        </p:nvSpPr>
        <p:spPr>
          <a:xfrm>
            <a:off x="324000" y="1111320"/>
            <a:ext cx="829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Structure du chapitre :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2b53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b53a0"/>
                </a:solidFill>
                <a:latin typeface="Calibri"/>
              </a:rPr>
              <a:t>Mesurer la prospérité économiqu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roissance : tendance à long term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Politique de croissanc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njoncture : variations à court term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Politique conjoncturelle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politique de croissance et la politique conjoncturelle de la Suisse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79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80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4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26" name="Text Box 7"/>
          <p:cNvSpPr/>
          <p:nvPr/>
        </p:nvSpPr>
        <p:spPr>
          <a:xfrm>
            <a:off x="395280" y="47973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a conjoncture évolue typiquement selon un cycle pendant lequel une période de haute conjoncture est suivie d’une récession.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27" name="Text Box 9"/>
          <p:cNvSpPr/>
          <p:nvPr/>
        </p:nvSpPr>
        <p:spPr>
          <a:xfrm>
            <a:off x="395280" y="112536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a conjoncture s’incarne dans les variations du PIB autour de la droite de croissance tendantielle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28" name="Text Box 10"/>
          <p:cNvSpPr/>
          <p:nvPr/>
        </p:nvSpPr>
        <p:spPr>
          <a:xfrm>
            <a:off x="395280" y="2573280"/>
            <a:ext cx="8280360" cy="1557000"/>
          </a:xfrm>
          <a:prstGeom prst="rect">
            <a:avLst/>
          </a:prstGeom>
          <a:solidFill>
            <a:srgbClr val="c0c0c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de-CH" sz="2400" spc="-1" strike="noStrike">
                <a:solidFill>
                  <a:srgbClr val="000000"/>
                </a:solidFill>
                <a:latin typeface="Calibri"/>
              </a:rPr>
              <a:t>Conjoncture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Évolution d’une économie sur le court terme. On estime la conjoncture en observant l’évolution du PIB sur un trimestre ou sur une année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29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30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Conjoncture : variations à court term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4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32" name="Text Box 9"/>
          <p:cNvSpPr/>
          <p:nvPr/>
        </p:nvSpPr>
        <p:spPr>
          <a:xfrm>
            <a:off x="395280" y="981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Si les facteurs de production sont sous-utilisés, l’économie est en récession. En cas de sur-utilisation, on parle de haute conjoncture ou de boom économique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33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34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Conjoncture : variations à court term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pic>
        <p:nvPicPr>
          <p:cNvPr id="835" name="Image 1" descr=""/>
          <p:cNvPicPr/>
          <p:nvPr/>
        </p:nvPicPr>
        <p:blipFill>
          <a:blip r:embed="rId1"/>
          <a:stretch/>
        </p:blipFill>
        <p:spPr>
          <a:xfrm>
            <a:off x="684360" y="2214720"/>
            <a:ext cx="7488000" cy="4182840"/>
          </a:xfrm>
          <a:prstGeom prst="rect">
            <a:avLst/>
          </a:prstGeom>
          <a:ln w="0">
            <a:noFill/>
          </a:ln>
        </p:spPr>
      </p:pic>
      <p:sp>
        <p:nvSpPr>
          <p:cNvPr id="836" name="Rectangle 2"/>
          <p:cNvSpPr/>
          <p:nvPr/>
        </p:nvSpPr>
        <p:spPr>
          <a:xfrm>
            <a:off x="755640" y="2276640"/>
            <a:ext cx="863640" cy="215640"/>
          </a:xfrm>
          <a:prstGeom prst="rect">
            <a:avLst/>
          </a:prstGeom>
          <a:solidFill>
            <a:srgbClr val="e9e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Text Box 4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38" name="Text Box 7"/>
          <p:cNvSpPr/>
          <p:nvPr/>
        </p:nvSpPr>
        <p:spPr>
          <a:xfrm>
            <a:off x="395280" y="443700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39" name="Text Box 8"/>
          <p:cNvSpPr/>
          <p:nvPr/>
        </p:nvSpPr>
        <p:spPr>
          <a:xfrm>
            <a:off x="395280" y="12430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Cycle conjoncturel concret en Suisse à l’aune du taux de croissanc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40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41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Conjoncture : variations à court term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pic>
        <p:nvPicPr>
          <p:cNvPr id="842" name="Image 2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812628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Text Box 4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44" name="Text Box 7"/>
          <p:cNvSpPr/>
          <p:nvPr/>
        </p:nvSpPr>
        <p:spPr>
          <a:xfrm>
            <a:off x="395280" y="443700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395280" y="1268280"/>
            <a:ext cx="842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es cycles conjoncturels se produisent car l’ensemble de l’économie est soumise aux variations de la demande.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es variations de la demande sont dues à divers déclencheurs, par exemple :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lvl="1" marL="743040" indent="-3430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des turbulences sur les marchés financiers,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lvl="1" marL="743040" indent="-3430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des événements de guerre,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lvl="1" marL="743040" indent="-3430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une montée des taux d’intérêt,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lvl="1" marL="743040" indent="-3430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des attentes négatives concernant l’avenir, notamment en raison d’une multiplication d’articles médiatiques sur des licenciements.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46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47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Conjoncture : variations à court term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Text Box 4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49" name="Text Box 7"/>
          <p:cNvSpPr/>
          <p:nvPr/>
        </p:nvSpPr>
        <p:spPr>
          <a:xfrm>
            <a:off x="395280" y="443700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50" name="Text Box 8"/>
          <p:cNvSpPr/>
          <p:nvPr/>
        </p:nvSpPr>
        <p:spPr>
          <a:xfrm>
            <a:off x="395280" y="1679400"/>
            <a:ext cx="842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Toutes les composantes de la demande (consommation, investissements, dépenses étatiques, exportations nettes) peuvent subir une baisse en cas de repli de l’économie.  </a:t>
            </a:r>
            <a:br>
              <a:rPr sz="2400"/>
            </a:b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Ce sont les investissements qui subissent néanmoins les plus grandes variations, car ils sont très sensibles à la manière dont les consommateurs envisagent l’avenir.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51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52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Conjoncture : variations à court term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Text Box 4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54" name="Text Box 7"/>
          <p:cNvSpPr/>
          <p:nvPr/>
        </p:nvSpPr>
        <p:spPr>
          <a:xfrm>
            <a:off x="395280" y="443700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55" name="Text Box 8"/>
          <p:cNvSpPr/>
          <p:nvPr/>
        </p:nvSpPr>
        <p:spPr>
          <a:xfrm>
            <a:off x="395280" y="981000"/>
            <a:ext cx="842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a Suisse est également très sensible aux chocs concernant les exportations nettes, dépendantes de la conjoncture mondiale.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Des chocs du côté de l’offre peuvent également induire une récession (p.ex. crise pétrolière des années 1970)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Cet exposé de faits est valable de manière équivalente pour une reprise.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e corona-choc : affecte autant la demande globale que l’offre globale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56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57" name="Rectangle 2"/>
          <p:cNvSpPr/>
          <p:nvPr/>
        </p:nvSpPr>
        <p:spPr>
          <a:xfrm>
            <a:off x="324000" y="14436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Conjoncture : variations à court term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59" name="Text Box 7"/>
          <p:cNvSpPr/>
          <p:nvPr/>
        </p:nvSpPr>
        <p:spPr>
          <a:xfrm>
            <a:off x="395280" y="443700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60" name="Text Box 8"/>
          <p:cNvSpPr/>
          <p:nvPr/>
        </p:nvSpPr>
        <p:spPr>
          <a:xfrm>
            <a:off x="395280" y="11620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es </a:t>
            </a:r>
            <a:r>
              <a:rPr b="0" i="1" lang="de-CH" sz="2400" spc="-1" strike="noStrike">
                <a:solidFill>
                  <a:srgbClr val="000000"/>
                </a:solidFill>
                <a:latin typeface="Calibri"/>
              </a:rPr>
              <a:t>politique monétaire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et </a:t>
            </a:r>
            <a:r>
              <a:rPr b="0" i="1" lang="de-CH" sz="2400" spc="-1" strike="noStrike">
                <a:solidFill>
                  <a:srgbClr val="000000"/>
                </a:solidFill>
                <a:latin typeface="Calibri"/>
              </a:rPr>
              <a:t>politique fiscale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menées par l’État influencent également les cycles conjoncturel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61" name="Text Box 9"/>
          <p:cNvSpPr/>
          <p:nvPr/>
        </p:nvSpPr>
        <p:spPr>
          <a:xfrm>
            <a:off x="395280" y="2421000"/>
            <a:ext cx="8280360" cy="1557000"/>
          </a:xfrm>
          <a:prstGeom prst="rect">
            <a:avLst/>
          </a:prstGeom>
          <a:solidFill>
            <a:srgbClr val="c0c0c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de-CH" sz="2400" spc="-1" strike="noStrike">
                <a:solidFill>
                  <a:srgbClr val="000000"/>
                </a:solidFill>
                <a:latin typeface="Calibri"/>
                <a:ea typeface="Calibri"/>
              </a:rPr>
              <a:t>Politique monétaire</a:t>
            </a: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égulation de l’offre de monnaie par la banque centrale. Une politique monétaire expansionniste accroît la masse monétaire alors qu’une politique restrictive la réduit.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62" name="Text Box 10"/>
          <p:cNvSpPr/>
          <p:nvPr/>
        </p:nvSpPr>
        <p:spPr>
          <a:xfrm>
            <a:off x="395280" y="4584600"/>
            <a:ext cx="8280360" cy="1191240"/>
          </a:xfrm>
          <a:prstGeom prst="rect">
            <a:avLst/>
          </a:prstGeom>
          <a:solidFill>
            <a:srgbClr val="c0c0c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de-CH" sz="2400" spc="-1" strike="noStrike">
                <a:solidFill>
                  <a:srgbClr val="000000"/>
                </a:solidFill>
                <a:latin typeface="Calibri"/>
                <a:ea typeface="Calibri"/>
              </a:rPr>
              <a:t>Politique fiscale</a:t>
            </a: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nsemble des mesures permettant d’influencer la conjoncture par la gestion des recettes et des dépenses publique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63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64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Conjoncture : variations à court term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395280" y="443700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395280" y="1197000"/>
            <a:ext cx="842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e traitement des informations conjoncturelles dans les médias est décisif, et prend deux formes :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Observation de la conjoncture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évaluation de la situation conjoncturelle actuelle par l’interprétation d’indicateurs approprié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Prévision conjoncturelle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stimation de l’évolution économique future au moyen de modèles prévisionnel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68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69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Conjoncture : variations à court term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4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71" name="Text Box 7"/>
          <p:cNvSpPr/>
          <p:nvPr/>
        </p:nvSpPr>
        <p:spPr>
          <a:xfrm>
            <a:off x="395280" y="443700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72" name="Text Box 8"/>
          <p:cNvSpPr/>
          <p:nvPr/>
        </p:nvSpPr>
        <p:spPr>
          <a:xfrm>
            <a:off x="395280" y="10000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À l’aide d’indicateurs avancés, retardés et coïncidents, les experts extrapolent l’évolution de la conjoncture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73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74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Conjoncture : variations à court term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grpSp>
        <p:nvGrpSpPr>
          <p:cNvPr id="875" name="Groupe 4"/>
          <p:cNvGrpSpPr/>
          <p:nvPr/>
        </p:nvGrpSpPr>
        <p:grpSpPr>
          <a:xfrm>
            <a:off x="268200" y="2205000"/>
            <a:ext cx="8551800" cy="3503520"/>
            <a:chOff x="268200" y="2205000"/>
            <a:chExt cx="8551800" cy="3503520"/>
          </a:xfrm>
        </p:grpSpPr>
        <p:pic>
          <p:nvPicPr>
            <p:cNvPr id="876" name="Image 1" descr=""/>
            <p:cNvPicPr/>
            <p:nvPr/>
          </p:nvPicPr>
          <p:blipFill>
            <a:blip r:embed="rId1"/>
            <a:stretch/>
          </p:blipFill>
          <p:spPr>
            <a:xfrm>
              <a:off x="268200" y="2205000"/>
              <a:ext cx="8551800" cy="35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7" name="Rectangle 3"/>
            <p:cNvSpPr/>
            <p:nvPr/>
          </p:nvSpPr>
          <p:spPr>
            <a:xfrm>
              <a:off x="466560" y="2220840"/>
              <a:ext cx="744480" cy="155520"/>
            </a:xfrm>
            <a:prstGeom prst="rect">
              <a:avLst/>
            </a:prstGeom>
            <a:solidFill>
              <a:srgbClr val="e9ea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ung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79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80" name="Text Box 10"/>
          <p:cNvSpPr/>
          <p:nvPr/>
        </p:nvSpPr>
        <p:spPr>
          <a:xfrm>
            <a:off x="422280" y="1255680"/>
            <a:ext cx="829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Structure du chapitre :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Mesurer la prospérité économiqu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roissance : tendance à long term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Politique de croissanc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njoncture : variations à court term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2b53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b53a0"/>
                </a:solidFill>
                <a:latin typeface="Calibri"/>
              </a:rPr>
              <a:t>Politique conjoncturelle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politique de croissance et la politique conjoncturelle de la Suisse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1. Mesurer la prospérité économiqu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82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83" name="Text Box 6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324000" y="1413000"/>
            <a:ext cx="8391240" cy="825480"/>
          </a:xfrm>
          <a:prstGeom prst="rect">
            <a:avLst/>
          </a:prstGeom>
          <a:solidFill>
            <a:srgbClr val="c0c0c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de-CH" sz="2400" spc="-1" strike="noStrike">
                <a:solidFill>
                  <a:srgbClr val="000000"/>
                </a:solidFill>
                <a:latin typeface="Calibri"/>
              </a:rPr>
              <a:t>Produit intérieur brut réel (PIB)</a:t>
            </a:r>
            <a:r>
              <a:rPr b="1" i="1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oduction totale d’une économie, mesurée à prix constant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85" name="Text Box 8"/>
          <p:cNvSpPr/>
          <p:nvPr/>
        </p:nvSpPr>
        <p:spPr>
          <a:xfrm>
            <a:off x="357120" y="3143160"/>
            <a:ext cx="829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e PIB réel par habitant est la mesure usuelle permettant de comparer le niveau de prospérité des États.</a:t>
            </a:r>
            <a:br>
              <a:rPr sz="2400"/>
            </a:b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176040" indent="-1760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Pour permettre une meilleure comparaison, tenant compte du pouvoir d’achat, le PIB est corrigé de l’inflation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Text Box 4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82" name="Text Box 8"/>
          <p:cNvSpPr/>
          <p:nvPr/>
        </p:nvSpPr>
        <p:spPr>
          <a:xfrm>
            <a:off x="395280" y="1197000"/>
            <a:ext cx="842472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Concept de la 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politique conjoncturelle anticyclique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En situation de récession, l’État stimule économie par la demande. En situation de boom, il freine l’économie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Cette politique est nommée « keynesienne » en référence au célèbre économiste John Maynard Keyne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83" name="Text Box 10"/>
          <p:cNvSpPr/>
          <p:nvPr/>
        </p:nvSpPr>
        <p:spPr>
          <a:xfrm>
            <a:off x="395280" y="3967200"/>
            <a:ext cx="8353440" cy="2440800"/>
          </a:xfrm>
          <a:prstGeom prst="rect">
            <a:avLst/>
          </a:prstGeom>
          <a:solidFill>
            <a:srgbClr val="7193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Canaux influençant le PIB :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Politique fiscale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, qui porte sur les dépenses et les recettes de l’État (impôts)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Politique monétaire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, qui influence les investissements et les exportations nette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84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85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1" lang="de-DE" sz="2400" spc="-1" strike="noStrike">
                <a:solidFill>
                  <a:srgbClr val="ffffff"/>
                </a:solidFill>
                <a:latin typeface="Calibri"/>
              </a:rPr>
              <a:t>Politique conjoncturell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Text Box 4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87" name="Text Box 7"/>
          <p:cNvSpPr/>
          <p:nvPr/>
        </p:nvSpPr>
        <p:spPr>
          <a:xfrm>
            <a:off x="395280" y="443700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88" name="Text Box 8"/>
          <p:cNvSpPr/>
          <p:nvPr/>
        </p:nvSpPr>
        <p:spPr>
          <a:xfrm>
            <a:off x="395280" y="2365200"/>
            <a:ext cx="842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400" spc="-1" strike="noStrike">
                <a:solidFill>
                  <a:srgbClr val="000000"/>
                </a:solidFill>
                <a:latin typeface="Calibri"/>
              </a:rPr>
              <a:t>Expansionniste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(en cas de récession) : l’État augmente ses dépenses ou réduit les impôts. En situation de récession, cela provoque des déficts budgétaires et entraîne l’endettement de l’État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400" spc="-1" strike="noStrike">
                <a:solidFill>
                  <a:srgbClr val="000000"/>
                </a:solidFill>
                <a:latin typeface="Calibri"/>
              </a:rPr>
              <a:t>Restrictive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(en cas de boom) : l’État réduit ses dépenses ou augmente les impôts. Cela conduit à des excédents budgétaires permettant de diminuer les dette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89" name="Text Box 11"/>
          <p:cNvSpPr/>
          <p:nvPr/>
        </p:nvSpPr>
        <p:spPr>
          <a:xfrm>
            <a:off x="312840" y="1387440"/>
            <a:ext cx="8426520" cy="459720"/>
          </a:xfrm>
          <a:prstGeom prst="rect">
            <a:avLst/>
          </a:prstGeom>
          <a:solidFill>
            <a:srgbClr val="7193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Politique fiscal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90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91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1" lang="de-DE" sz="2400" spc="-1" strike="noStrike">
                <a:solidFill>
                  <a:srgbClr val="ffffff"/>
                </a:solidFill>
                <a:latin typeface="Calibri"/>
              </a:rPr>
              <a:t>Politique conjoncturell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Text Box 4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93" name="Text Box 7"/>
          <p:cNvSpPr/>
          <p:nvPr/>
        </p:nvSpPr>
        <p:spPr>
          <a:xfrm>
            <a:off x="395280" y="443700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94" name="Text Box 8"/>
          <p:cNvSpPr/>
          <p:nvPr/>
        </p:nvSpPr>
        <p:spPr>
          <a:xfrm>
            <a:off x="324000" y="171144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Mode opératoire d’une politique fiscale expansionniste :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95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96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1" lang="de-DE" sz="2400" spc="-1" strike="noStrike">
                <a:solidFill>
                  <a:srgbClr val="ffffff"/>
                </a:solidFill>
                <a:latin typeface="Calibri"/>
              </a:rPr>
              <a:t>Politique conjoncturell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97" name="Text Box 11"/>
          <p:cNvSpPr/>
          <p:nvPr/>
        </p:nvSpPr>
        <p:spPr>
          <a:xfrm>
            <a:off x="312840" y="1387440"/>
            <a:ext cx="8426520" cy="459720"/>
          </a:xfrm>
          <a:prstGeom prst="rect">
            <a:avLst/>
          </a:prstGeom>
          <a:solidFill>
            <a:srgbClr val="7193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Politique fiscal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pic>
        <p:nvPicPr>
          <p:cNvPr id="898" name="Image 1" descr=""/>
          <p:cNvPicPr/>
          <p:nvPr/>
        </p:nvPicPr>
        <p:blipFill>
          <a:blip r:embed="rId1"/>
          <a:stretch/>
        </p:blipFill>
        <p:spPr>
          <a:xfrm>
            <a:off x="264960" y="2852640"/>
            <a:ext cx="79790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Text Box 4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00" name="Text Box 7"/>
          <p:cNvSpPr/>
          <p:nvPr/>
        </p:nvSpPr>
        <p:spPr>
          <a:xfrm>
            <a:off x="395280" y="443700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01" name="Text Box 8"/>
          <p:cNvSpPr/>
          <p:nvPr/>
        </p:nvSpPr>
        <p:spPr>
          <a:xfrm>
            <a:off x="395280" y="251460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400" spc="-1" strike="noStrike">
                <a:solidFill>
                  <a:srgbClr val="000000"/>
                </a:solidFill>
                <a:latin typeface="Calibri"/>
              </a:rPr>
              <a:t>expansionniste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(en cas de récession) : la banque centrale augmente la masse monétaire et baisse les taux d’intérêt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400" spc="-1" strike="noStrike">
                <a:solidFill>
                  <a:srgbClr val="000000"/>
                </a:solidFill>
                <a:latin typeface="Calibri"/>
              </a:rPr>
              <a:t>restrictive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(en cas de boom) : la banque centrale réduit la masse monétaire et augmente les intérêt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02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03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1" lang="de-DE" sz="2400" spc="-1" strike="noStrike">
                <a:solidFill>
                  <a:srgbClr val="ffffff"/>
                </a:solidFill>
                <a:latin typeface="Calibri"/>
              </a:rPr>
              <a:t>Politique conjoncturell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04" name="Text Box 11"/>
          <p:cNvSpPr/>
          <p:nvPr/>
        </p:nvSpPr>
        <p:spPr>
          <a:xfrm>
            <a:off x="312840" y="1387440"/>
            <a:ext cx="8426520" cy="459720"/>
          </a:xfrm>
          <a:prstGeom prst="rect">
            <a:avLst/>
          </a:prstGeom>
          <a:solidFill>
            <a:srgbClr val="7193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Politique monétair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Text Box 4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06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07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1" lang="de-DE" sz="2400" spc="-1" strike="noStrike">
                <a:solidFill>
                  <a:srgbClr val="ffffff"/>
                </a:solidFill>
                <a:latin typeface="Calibri"/>
              </a:rPr>
              <a:t>Politique conjoncturell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08" name="Text Box 11"/>
          <p:cNvSpPr/>
          <p:nvPr/>
        </p:nvSpPr>
        <p:spPr>
          <a:xfrm>
            <a:off x="312840" y="1387440"/>
            <a:ext cx="8426520" cy="459720"/>
          </a:xfrm>
          <a:prstGeom prst="rect">
            <a:avLst/>
          </a:prstGeom>
          <a:solidFill>
            <a:srgbClr val="7193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Politique monétair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09" name="Text Box 8"/>
          <p:cNvSpPr/>
          <p:nvPr/>
        </p:nvSpPr>
        <p:spPr>
          <a:xfrm>
            <a:off x="324000" y="171144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Mode opératoire d’une politique monétaire expansionniste: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pic>
        <p:nvPicPr>
          <p:cNvPr id="910" name="Image 1" descr=""/>
          <p:cNvPicPr/>
          <p:nvPr/>
        </p:nvPicPr>
        <p:blipFill>
          <a:blip r:embed="rId1"/>
          <a:stretch/>
        </p:blipFill>
        <p:spPr>
          <a:xfrm>
            <a:off x="312840" y="2898720"/>
            <a:ext cx="698472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Text Box 4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12" name="Text Box 7"/>
          <p:cNvSpPr/>
          <p:nvPr/>
        </p:nvSpPr>
        <p:spPr>
          <a:xfrm>
            <a:off x="395280" y="443700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13" name="Text Box 10"/>
          <p:cNvSpPr/>
          <p:nvPr/>
        </p:nvSpPr>
        <p:spPr>
          <a:xfrm>
            <a:off x="324000" y="1125360"/>
            <a:ext cx="828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Limites de la politique anticyclique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Décalage des effets :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1. par la reconnaissance tardive de la situation conjoncturelle ;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2. par l’adoption tardive de mesures ;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3. par l’action tardive des mesures prise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14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15" name="Rectangle 2"/>
          <p:cNvSpPr/>
          <p:nvPr/>
        </p:nvSpPr>
        <p:spPr>
          <a:xfrm>
            <a:off x="324000" y="14436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1" lang="de-DE" sz="2400" spc="-1" strike="noStrike">
                <a:solidFill>
                  <a:srgbClr val="ffffff"/>
                </a:solidFill>
                <a:latin typeface="Calibri"/>
              </a:rPr>
              <a:t>Politique conjoncturell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ext Box 4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17" name="Text Box 7"/>
          <p:cNvSpPr/>
          <p:nvPr/>
        </p:nvSpPr>
        <p:spPr>
          <a:xfrm>
            <a:off x="395280" y="443700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18" name="Text Box 10"/>
          <p:cNvSpPr/>
          <p:nvPr/>
        </p:nvSpPr>
        <p:spPr>
          <a:xfrm>
            <a:off x="395280" y="1125360"/>
            <a:ext cx="820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Limites de la politique anticycliqu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Asymétrie :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en situation de récession, stimuler la conjoncture est politiquement attractif, mais pas freiner la conjoncture en situation de boom.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Tendance à des déficits chronique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Cycles conjoncturels politiques :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les cycles conjoncturels sont liés aux processus politiques, dans un objectif de réélection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19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20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1" lang="de-DE" sz="2400" spc="-1" strike="noStrike">
                <a:solidFill>
                  <a:srgbClr val="ffffff"/>
                </a:solidFill>
                <a:latin typeface="Calibri"/>
              </a:rPr>
              <a:t>Politique conjoncturell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Text Box 4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22" name="Text Box 7"/>
          <p:cNvSpPr/>
          <p:nvPr/>
        </p:nvSpPr>
        <p:spPr>
          <a:xfrm>
            <a:off x="395280" y="443700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23" name="Text Box 10"/>
          <p:cNvSpPr/>
          <p:nvPr/>
        </p:nvSpPr>
        <p:spPr>
          <a:xfrm>
            <a:off x="395280" y="1125360"/>
            <a:ext cx="820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Stabilisateurs automatiques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Ces mécanismes compensent automatiquement une récession </a:t>
            </a:r>
            <a:r>
              <a:rPr b="0" lang="de-C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Alternative à la politique anticyclique.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Ces stabilisateurs agissent sur les recettes et les dépenses de l’État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Avantage : ces stabilisateurs agissent immédiatement, sans devoir être décidés politiquemement et entrer en vigueur (impliquant un certain délai)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24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25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1" lang="de-DE" sz="2400" spc="-1" strike="noStrike">
                <a:solidFill>
                  <a:srgbClr val="ffffff"/>
                </a:solidFill>
                <a:latin typeface="Calibri"/>
              </a:rPr>
              <a:t>Politique conjoncturell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Text Box 4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27" name="Text Box 7"/>
          <p:cNvSpPr/>
          <p:nvPr/>
        </p:nvSpPr>
        <p:spPr>
          <a:xfrm>
            <a:off x="395280" y="443700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28" name="Text Box 10"/>
          <p:cNvSpPr/>
          <p:nvPr/>
        </p:nvSpPr>
        <p:spPr>
          <a:xfrm>
            <a:off x="395280" y="1125360"/>
            <a:ext cx="820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Stabilisateurs automatiques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Exemple du côté des recettes :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Impôts : en récession, les recettes fiscales et les cotisations sociales baissent. Les ménages disposent de plus d’argent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hausse de la demande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Cet effet est particulièrement puissant dans les systèmes fiscaux progressif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29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30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1" lang="de-DE" sz="2400" spc="-1" strike="noStrike">
                <a:solidFill>
                  <a:srgbClr val="ffffff"/>
                </a:solidFill>
                <a:latin typeface="Calibri"/>
              </a:rPr>
              <a:t>Politique conjoncturell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Text Box 4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32" name="Text Box 7"/>
          <p:cNvSpPr/>
          <p:nvPr/>
        </p:nvSpPr>
        <p:spPr>
          <a:xfrm>
            <a:off x="395280" y="443700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33" name="Text Box 10"/>
          <p:cNvSpPr/>
          <p:nvPr/>
        </p:nvSpPr>
        <p:spPr>
          <a:xfrm>
            <a:off x="415800" y="1150920"/>
            <a:ext cx="820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Stabilisateurs automatiques :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Exemple du côté des dépenses :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’assurance-chômage : les personnes licenciées obtiennent des versements (augmentation des dépenses étatiques) </a:t>
            </a:r>
            <a:r>
              <a:rPr b="0" lang="de-C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les chômeurs peuvent à nouveau consommer </a:t>
            </a:r>
            <a:r>
              <a:rPr b="0" lang="de-C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stabilisation de la demande globale.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34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35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1" lang="de-DE" sz="2400" spc="-1" strike="noStrike">
                <a:solidFill>
                  <a:srgbClr val="ffffff"/>
                </a:solidFill>
                <a:latin typeface="Calibri"/>
              </a:rPr>
              <a:t>Politique conjoncturell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6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87" name="Text Box 8"/>
          <p:cNvSpPr/>
          <p:nvPr/>
        </p:nvSpPr>
        <p:spPr>
          <a:xfrm>
            <a:off x="324000" y="1052640"/>
            <a:ext cx="829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e PIB se calcule de trois manières, produisant toutes le même résultat.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88" name="Text Box 11"/>
          <p:cNvSpPr/>
          <p:nvPr/>
        </p:nvSpPr>
        <p:spPr>
          <a:xfrm>
            <a:off x="333360" y="2286000"/>
            <a:ext cx="8342280" cy="3385800"/>
          </a:xfrm>
          <a:prstGeom prst="rect">
            <a:avLst/>
          </a:prstGeom>
          <a:solidFill>
            <a:srgbClr val="7193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3 manières de calculer le PIB :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’optique de la production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’optique des dépenses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’optique des revenus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89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1. Mesurer la prospérité économiqu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90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Text Box 7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37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38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39" name="Text Box 10"/>
          <p:cNvSpPr/>
          <p:nvPr/>
        </p:nvSpPr>
        <p:spPr>
          <a:xfrm>
            <a:off x="422280" y="1255680"/>
            <a:ext cx="829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Structure du chapitre :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Mesurer la prospérité économiqu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roissance : tendance à long term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Politique de croissanc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njoncture : variations à court term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Politique conjoncturelle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2b53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b53a0"/>
                </a:solidFill>
                <a:latin typeface="Calibri"/>
              </a:rPr>
              <a:t>La politique de croissance et la politique conjoncturelle de la Suisse</a:t>
            </a:r>
            <a:r>
              <a:rPr b="1" lang="de-DE" sz="2400" spc="-1" strike="noStrike">
                <a:solidFill>
                  <a:srgbClr val="2b53a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Text Box 4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41" name="Text Box 7"/>
          <p:cNvSpPr/>
          <p:nvPr/>
        </p:nvSpPr>
        <p:spPr>
          <a:xfrm>
            <a:off x="395280" y="443700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42" name="Text Box 8"/>
          <p:cNvSpPr/>
          <p:nvPr/>
        </p:nvSpPr>
        <p:spPr>
          <a:xfrm>
            <a:off x="468360" y="3676680"/>
            <a:ext cx="8299440" cy="1922760"/>
          </a:xfrm>
          <a:prstGeom prst="rect">
            <a:avLst/>
          </a:prstGeom>
          <a:solidFill>
            <a:srgbClr val="7193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Biais d’actions possibles (= source de la croissance) :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268200" indent="-268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Taux d’occupation (nombre d’heures travaillées) 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268200" indent="-268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268200" indent="-268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  <a:ea typeface="Calibri"/>
              </a:rPr>
              <a:t>Productivité du travail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43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44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6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La politique de croissance et la politique conjoncturelle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de la Suiss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45" name="Text Box 10"/>
          <p:cNvSpPr/>
          <p:nvPr/>
        </p:nvSpPr>
        <p:spPr>
          <a:xfrm>
            <a:off x="395280" y="907920"/>
            <a:ext cx="820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En Suisse, dans les années 1990, la croissance était plutôt basse en comparaison internationale.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  <a:ea typeface="Calibri"/>
              </a:rPr>
              <a:t>En réaction, le Conseil fédéral a lancé une politique de croissance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Text Box 4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47" name="Text Box 7"/>
          <p:cNvSpPr/>
          <p:nvPr/>
        </p:nvSpPr>
        <p:spPr>
          <a:xfrm>
            <a:off x="395280" y="443700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48" name="Text Box 8"/>
          <p:cNvSpPr/>
          <p:nvPr/>
        </p:nvSpPr>
        <p:spPr>
          <a:xfrm>
            <a:off x="324000" y="1052640"/>
            <a:ext cx="8351640" cy="459720"/>
          </a:xfrm>
          <a:prstGeom prst="rect">
            <a:avLst/>
          </a:prstGeom>
          <a:solidFill>
            <a:srgbClr val="7193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1. Taux d’occupation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49" name="Text Box 13"/>
          <p:cNvSpPr/>
          <p:nvPr/>
        </p:nvSpPr>
        <p:spPr>
          <a:xfrm>
            <a:off x="395280" y="3716280"/>
            <a:ext cx="8353440" cy="1191240"/>
          </a:xfrm>
          <a:prstGeom prst="rect">
            <a:avLst/>
          </a:prstGeom>
          <a:solidFill>
            <a:srgbClr val="c0c0c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de-CH" sz="2400" spc="-1" strike="noStrike">
                <a:solidFill>
                  <a:srgbClr val="000000"/>
                </a:solidFill>
                <a:latin typeface="Calibri"/>
              </a:rPr>
              <a:t>Taux d’actifs occupés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art des personnes actives exerçant une activité rémunérée dans la population âgée d’au moins 15 an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50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51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6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La politique de croissance et la politique conjoncturelle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de la Suiss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52" name="Text Box 10"/>
          <p:cNvSpPr/>
          <p:nvPr/>
        </p:nvSpPr>
        <p:spPr>
          <a:xfrm>
            <a:off x="324000" y="1557360"/>
            <a:ext cx="82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e potentiel en matière de taux d’activité est déjà épuisé en Suisse. Ceci est démontré par un </a:t>
            </a:r>
            <a:r>
              <a:rPr b="0" i="1" lang="de-CH" sz="2400" spc="-1" strike="noStrike">
                <a:solidFill>
                  <a:srgbClr val="000000"/>
                </a:solidFill>
                <a:latin typeface="Calibri"/>
              </a:rPr>
              <a:t>taux d’actifs occupés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record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Text Box 4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54" name="Text Box 8"/>
          <p:cNvSpPr/>
          <p:nvPr/>
        </p:nvSpPr>
        <p:spPr>
          <a:xfrm>
            <a:off x="339840" y="1052640"/>
            <a:ext cx="8351640" cy="459720"/>
          </a:xfrm>
          <a:prstGeom prst="rect">
            <a:avLst/>
          </a:prstGeom>
          <a:solidFill>
            <a:srgbClr val="7193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1. Taux d’occupation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55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56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6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La politique de croissance et la politique conjoncturelle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de la Suiss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pic>
        <p:nvPicPr>
          <p:cNvPr id="957" name="Image 3" descr=""/>
          <p:cNvPicPr/>
          <p:nvPr/>
        </p:nvPicPr>
        <p:blipFill>
          <a:blip r:embed="rId1"/>
          <a:stretch/>
        </p:blipFill>
        <p:spPr>
          <a:xfrm>
            <a:off x="336600" y="1768320"/>
            <a:ext cx="796608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Text Box 4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59" name="Text Box 7"/>
          <p:cNvSpPr/>
          <p:nvPr/>
        </p:nvSpPr>
        <p:spPr>
          <a:xfrm>
            <a:off x="395280" y="443700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60" name="Text Box 8"/>
          <p:cNvSpPr/>
          <p:nvPr/>
        </p:nvSpPr>
        <p:spPr>
          <a:xfrm>
            <a:off x="324000" y="1052640"/>
            <a:ext cx="8351640" cy="459720"/>
          </a:xfrm>
          <a:prstGeom prst="rect">
            <a:avLst/>
          </a:prstGeom>
          <a:solidFill>
            <a:srgbClr val="7193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2. Productivité du travail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61" name="Text Box 8"/>
          <p:cNvSpPr/>
          <p:nvPr/>
        </p:nvSpPr>
        <p:spPr>
          <a:xfrm>
            <a:off x="324000" y="1773360"/>
            <a:ext cx="8299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e niveau, en Suisse, de la productivité du travail est relativement bas en comparaison internationale </a:t>
            </a:r>
            <a:r>
              <a:rPr b="0" lang="de-C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potentiel de croissance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Stratégie du Conseil fédéral :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Stimulation de la productivité en favorisant la concurrence dans des secteurs peu productifs, orientés vers le marché intérieur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Mise en place concrète du frein à l’endettement, permettant de limiter la part étatique du PIB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62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63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6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La politique de croissance et la politique conjoncturelle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de la Suiss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Text Box 4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65" name="Text Box 7"/>
          <p:cNvSpPr/>
          <p:nvPr/>
        </p:nvSpPr>
        <p:spPr>
          <a:xfrm>
            <a:off x="395280" y="443700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66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67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6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La politique de croissance et la politique conjoncturelle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de la Suiss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68" name="Text Box 8"/>
          <p:cNvSpPr/>
          <p:nvPr/>
        </p:nvSpPr>
        <p:spPr>
          <a:xfrm>
            <a:off x="324000" y="1052640"/>
            <a:ext cx="8351640" cy="459720"/>
          </a:xfrm>
          <a:prstGeom prst="rect">
            <a:avLst/>
          </a:prstGeom>
          <a:solidFill>
            <a:srgbClr val="7193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2. Productivité du travail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grpSp>
        <p:nvGrpSpPr>
          <p:cNvPr id="969" name="Groupe 3"/>
          <p:cNvGrpSpPr/>
          <p:nvPr/>
        </p:nvGrpSpPr>
        <p:grpSpPr>
          <a:xfrm>
            <a:off x="322200" y="1776240"/>
            <a:ext cx="8035920" cy="4677120"/>
            <a:chOff x="322200" y="1776240"/>
            <a:chExt cx="8035920" cy="4677120"/>
          </a:xfrm>
        </p:grpSpPr>
        <p:pic>
          <p:nvPicPr>
            <p:cNvPr id="970" name="Image 1" descr=""/>
            <p:cNvPicPr/>
            <p:nvPr/>
          </p:nvPicPr>
          <p:blipFill>
            <a:blip r:embed="rId1"/>
            <a:stretch/>
          </p:blipFill>
          <p:spPr>
            <a:xfrm>
              <a:off x="322200" y="1776240"/>
              <a:ext cx="8035920" cy="467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1" name="Rectangle 2"/>
            <p:cNvSpPr/>
            <p:nvPr/>
          </p:nvSpPr>
          <p:spPr>
            <a:xfrm>
              <a:off x="468000" y="1776240"/>
              <a:ext cx="1008000" cy="141120"/>
            </a:xfrm>
            <a:prstGeom prst="rect">
              <a:avLst/>
            </a:prstGeom>
            <a:solidFill>
              <a:srgbClr val="e9ea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ung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Text Box 4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73" name="Text Box 8"/>
          <p:cNvSpPr/>
          <p:nvPr/>
        </p:nvSpPr>
        <p:spPr>
          <a:xfrm>
            <a:off x="250920" y="1052640"/>
            <a:ext cx="829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Politique conjoncturelle de la Suiss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En temps normal, pas de politique keynesienne.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Focalisation sur les stabilisateurs automatiques, soutenus par le frein à l’endettement.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Bien que la politique monétaire cible en premier lieu la stabilité des prix, elle considère tout de même la conjoncture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74" name="Text Box 10"/>
          <p:cNvSpPr/>
          <p:nvPr/>
        </p:nvSpPr>
        <p:spPr>
          <a:xfrm>
            <a:off x="339840" y="4824360"/>
            <a:ext cx="8280360" cy="1191240"/>
          </a:xfrm>
          <a:prstGeom prst="rect">
            <a:avLst/>
          </a:prstGeom>
          <a:solidFill>
            <a:srgbClr val="c0c0c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de-CH" sz="2400" spc="-1" strike="noStrike">
                <a:solidFill>
                  <a:srgbClr val="000000"/>
                </a:solidFill>
                <a:latin typeface="Calibri"/>
              </a:rPr>
              <a:t>Frein à l’endettement</a:t>
            </a:r>
            <a:r>
              <a:rPr b="1" i="1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écanisme de politique budgétaire visant à stabiliser la dette publique en tenant compte du cycle conjoncturel.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75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76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6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La politique de croissance et la politique conjoncturelle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de la Suiss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Text Box 4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78" name="Text Box 7"/>
          <p:cNvSpPr/>
          <p:nvPr/>
        </p:nvSpPr>
        <p:spPr>
          <a:xfrm>
            <a:off x="395280" y="443700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79" name="Text Box 8"/>
          <p:cNvSpPr/>
          <p:nvPr/>
        </p:nvSpPr>
        <p:spPr>
          <a:xfrm>
            <a:off x="250920" y="1052640"/>
            <a:ext cx="856908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olitique conjoncturelle de la Suisse pendant la crise économique et financièr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unga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es incertitudes concernant l’ampleur et le déroulement de la crise étaient énormes.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unga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e Conseil fédéral a décidé des </a:t>
            </a:r>
            <a:r>
              <a:rPr b="0" i="1" lang="de-CH" sz="2400" spc="-1" strike="noStrike">
                <a:solidFill>
                  <a:srgbClr val="000000"/>
                </a:solidFill>
                <a:latin typeface="Calibri"/>
              </a:rPr>
              <a:t>mesures de stabilisation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en trois étape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unga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Important : ces mesures se sont inscrites dans le mécanisme du frein à l’endettement et n’ont pas occasionné de dette supplémentaire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80" name="Text Box 10"/>
          <p:cNvSpPr/>
          <p:nvPr/>
        </p:nvSpPr>
        <p:spPr>
          <a:xfrm>
            <a:off x="322200" y="5157720"/>
            <a:ext cx="8280360" cy="1191240"/>
          </a:xfrm>
          <a:prstGeom prst="rect">
            <a:avLst/>
          </a:prstGeom>
          <a:solidFill>
            <a:srgbClr val="c0c0c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de-CH" sz="2400" spc="-1" strike="noStrike">
                <a:solidFill>
                  <a:srgbClr val="000000"/>
                </a:solidFill>
                <a:latin typeface="Calibri"/>
              </a:rPr>
              <a:t>Mesures de stabilisation</a:t>
            </a:r>
            <a:r>
              <a:rPr b="1" i="1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esures de politique économique visant à atténuer les fluctuations conjoncturelle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81" name="Rectangle 3"/>
          <p:cNvSpPr/>
          <p:nvPr/>
        </p:nvSpPr>
        <p:spPr>
          <a:xfrm>
            <a:off x="7956720" y="136440"/>
            <a:ext cx="71892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82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6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La politique de croissance et la politique conjoncturelle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de la Suiss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Text Box 6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92" name="Text Box 7"/>
          <p:cNvSpPr/>
          <p:nvPr/>
        </p:nvSpPr>
        <p:spPr>
          <a:xfrm>
            <a:off x="324000" y="2286000"/>
            <a:ext cx="829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Se concentre sur la production de biens et services.</a:t>
            </a:r>
            <a:br>
              <a:rPr sz="2400"/>
            </a:b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Somme de la </a:t>
            </a:r>
            <a:r>
              <a:rPr b="0" i="1" lang="de-CH" sz="2400" spc="-1" strike="noStrike">
                <a:solidFill>
                  <a:srgbClr val="000000"/>
                </a:solidFill>
                <a:latin typeface="Calibri"/>
              </a:rPr>
              <a:t>création de valeur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auprès des producteurs de biens et service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93" name="Text Box 7"/>
          <p:cNvSpPr/>
          <p:nvPr/>
        </p:nvSpPr>
        <p:spPr>
          <a:xfrm>
            <a:off x="324000" y="1197000"/>
            <a:ext cx="8391240" cy="459720"/>
          </a:xfrm>
          <a:prstGeom prst="rect">
            <a:avLst/>
          </a:prstGeom>
          <a:solidFill>
            <a:srgbClr val="7193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1. L’optique de la production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94" name="Text Box 7"/>
          <p:cNvSpPr/>
          <p:nvPr/>
        </p:nvSpPr>
        <p:spPr>
          <a:xfrm>
            <a:off x="357120" y="4572000"/>
            <a:ext cx="8286840" cy="1557000"/>
          </a:xfrm>
          <a:prstGeom prst="rect">
            <a:avLst/>
          </a:prstGeom>
          <a:solidFill>
            <a:srgbClr val="c0c0c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de-CH" sz="2400" spc="-1" strike="noStrike">
                <a:solidFill>
                  <a:srgbClr val="000000"/>
                </a:solidFill>
                <a:latin typeface="Calibri"/>
              </a:rPr>
              <a:t>Création de valeur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Valeur ajoutée lors de la production grâce à la transformation d’un bien existant en un autre bien. La valeur ajoutée correspond à la valeur du bien produit moins la valeur des intrant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95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1. Mesurer la prospérité économiqu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6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98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1. Mesurer la prospérité économiqu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99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00" name="Text Box 7"/>
          <p:cNvSpPr/>
          <p:nvPr/>
        </p:nvSpPr>
        <p:spPr>
          <a:xfrm>
            <a:off x="324000" y="1197000"/>
            <a:ext cx="8391240" cy="459720"/>
          </a:xfrm>
          <a:prstGeom prst="rect">
            <a:avLst/>
          </a:prstGeom>
          <a:solidFill>
            <a:srgbClr val="7193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1. L’optique de la production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grpSp>
        <p:nvGrpSpPr>
          <p:cNvPr id="701" name="Groupe 5"/>
          <p:cNvGrpSpPr/>
          <p:nvPr/>
        </p:nvGrpSpPr>
        <p:grpSpPr>
          <a:xfrm>
            <a:off x="1357200" y="2276640"/>
            <a:ext cx="6324840" cy="3168360"/>
            <a:chOff x="1357200" y="2276640"/>
            <a:chExt cx="6324840" cy="3168360"/>
          </a:xfrm>
        </p:grpSpPr>
        <p:pic>
          <p:nvPicPr>
            <p:cNvPr id="702" name="Image 4" descr=""/>
            <p:cNvPicPr/>
            <p:nvPr/>
          </p:nvPicPr>
          <p:blipFill>
            <a:blip r:embed="rId1"/>
            <a:stretch/>
          </p:blipFill>
          <p:spPr>
            <a:xfrm>
              <a:off x="1357200" y="2276640"/>
              <a:ext cx="2552400" cy="31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Image 3" descr=""/>
            <p:cNvPicPr/>
            <p:nvPr/>
          </p:nvPicPr>
          <p:blipFill>
            <a:blip r:embed="rId2"/>
            <a:stretch/>
          </p:blipFill>
          <p:spPr>
            <a:xfrm>
              <a:off x="3879360" y="2276640"/>
              <a:ext cx="3802680" cy="3168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6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05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1. Mesurer la prospérité économiqu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06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07" name="Text Box 7"/>
          <p:cNvSpPr/>
          <p:nvPr/>
        </p:nvSpPr>
        <p:spPr>
          <a:xfrm>
            <a:off x="250920" y="1125360"/>
            <a:ext cx="829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a chaîne de création de valeur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grpSp>
        <p:nvGrpSpPr>
          <p:cNvPr id="708" name="Groupe 3"/>
          <p:cNvGrpSpPr/>
          <p:nvPr/>
        </p:nvGrpSpPr>
        <p:grpSpPr>
          <a:xfrm>
            <a:off x="322200" y="1779480"/>
            <a:ext cx="8388360" cy="4313520"/>
            <a:chOff x="322200" y="1779480"/>
            <a:chExt cx="8388360" cy="4313520"/>
          </a:xfrm>
        </p:grpSpPr>
        <p:pic>
          <p:nvPicPr>
            <p:cNvPr id="709" name="Image 1" descr=""/>
            <p:cNvPicPr/>
            <p:nvPr/>
          </p:nvPicPr>
          <p:blipFill>
            <a:blip r:embed="rId1"/>
            <a:stretch/>
          </p:blipFill>
          <p:spPr>
            <a:xfrm>
              <a:off x="322200" y="1779480"/>
              <a:ext cx="8388360" cy="431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Rectangle 2"/>
            <p:cNvSpPr/>
            <p:nvPr/>
          </p:nvSpPr>
          <p:spPr>
            <a:xfrm>
              <a:off x="322200" y="1779480"/>
              <a:ext cx="839520" cy="261720"/>
            </a:xfrm>
            <a:prstGeom prst="rect">
              <a:avLst/>
            </a:prstGeom>
            <a:solidFill>
              <a:srgbClr val="e9ea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ung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 Box 6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12" name="Text Box 7"/>
          <p:cNvSpPr/>
          <p:nvPr/>
        </p:nvSpPr>
        <p:spPr>
          <a:xfrm>
            <a:off x="285840" y="2133720"/>
            <a:ext cx="8607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PIB comme la somme des dépenses des groupes de demandeurs (consommateurs, État, entreprises, étranger)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PIB = consommation, investissements, dépenses étatiques, </a:t>
            </a:r>
            <a:r>
              <a:rPr b="0" i="1" lang="de-CH" sz="2400" spc="-1" strike="noStrike">
                <a:solidFill>
                  <a:srgbClr val="000000"/>
                </a:solidFill>
                <a:latin typeface="Calibri"/>
              </a:rPr>
              <a:t>exportations nette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13" name="Text Box 7"/>
          <p:cNvSpPr/>
          <p:nvPr/>
        </p:nvSpPr>
        <p:spPr>
          <a:xfrm>
            <a:off x="324000" y="1197000"/>
            <a:ext cx="8391240" cy="459720"/>
          </a:xfrm>
          <a:prstGeom prst="rect">
            <a:avLst/>
          </a:prstGeom>
          <a:solidFill>
            <a:srgbClr val="7193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2. L’optique des dépenses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14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1. Mesurer la prospérité économiqu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15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2b5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16" name="Text Box 8"/>
          <p:cNvSpPr/>
          <p:nvPr/>
        </p:nvSpPr>
        <p:spPr>
          <a:xfrm>
            <a:off x="357120" y="4508640"/>
            <a:ext cx="8318520" cy="1191240"/>
          </a:xfrm>
          <a:prstGeom prst="rect">
            <a:avLst/>
          </a:prstGeom>
          <a:solidFill>
            <a:srgbClr val="c0c0c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de-CH" sz="2400" spc="-1" strike="noStrike">
                <a:solidFill>
                  <a:srgbClr val="000000"/>
                </a:solidFill>
                <a:latin typeface="Calibri"/>
              </a:rPr>
              <a:t>Exportations nettes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Valeur des exportations après déduction de la valeur des importation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8T15:32:08Z</dcterms:created>
  <dc:creator>Damian Künzi</dc:creator>
  <dc:description/>
  <dc:language>en-US</dc:language>
  <cp:lastModifiedBy>Alice Micheau</cp:lastModifiedBy>
  <cp:lastPrinted>2019-05-09T06:02:34Z</cp:lastPrinted>
  <dcterms:modified xsi:type="dcterms:W3CDTF">2022-08-30T09:13:46Z</dcterms:modified>
  <cp:revision>351</cp:revision>
  <dc:subject/>
  <dc:title>Inflation und Geldpolitik</dc:title>
</cp:coreProperties>
</file>