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4C3D-85FA-4A57-854A-A34CA880A365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FBD6-832C-4653-967D-DD02EFA7194D}" type="slidenum">
              <a:rPr b="0" lang="de-CH" sz="1200" spc="-1" strike="noStrike">
                <a:solidFill>
                  <a:srgbClr val="000000"/>
                </a:solidFill>
                <a:latin typeface="Tung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482C94-C4D0-4BC5-8C1B-248E913E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D9EAAD-B4D3-4DD1-95D6-99180259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59093-0274-4C48-B87D-238AB4E4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634352-ECA3-45FF-B394-8162F03D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E4C167-AF5B-4557-8AA5-1BF1F1F4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85CEF2-96C8-4AE5-9A2A-18080BA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97A6B-90C9-43DD-A915-4C00744E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5B5AB4-662F-443D-BFA8-25251ABB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E6B77A-B298-402C-A99E-C90E095E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8AC494-A130-4B3B-AE60-BDE0BDF0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4A6268-8AD3-4DD7-9687-763897C2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E6D915-17CF-4323-86A3-5B348805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1F9D2A-4EF8-45AD-9BE5-87EF3A31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108740-8BF4-4087-8B1E-6C271402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639C2D-FE04-4E09-A81F-537FB20B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C1B9C7-A0B6-45B9-8B7E-B591250A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F1763A-3C5D-4C8F-A627-6CF5DF98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1E5958-2046-4624-A7B0-05FD5355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179259-2BEB-4582-BBFF-9781B786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20FFAC-6691-48B7-9FA2-9AFE623F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99FA48-4A81-493B-8EDB-D4BD78F6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12287F-E48A-4331-BAA5-2C0D14CC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1B8EC5-5E35-4709-AD2B-C6752977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6E128C-04DC-4038-8C92-1708FCFB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68713D-FC01-4C44-A1C4-D90DFF0A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572DD1-D62E-4B85-9BF9-25135C3D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4CDD46-047A-457E-B160-67B67E93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01D8C6-6492-4102-9E1F-A6C2FA7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1FCFE5-55AE-4AD4-8DBB-902728EA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457E8A-00BE-471D-9C66-11EE6B7F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CF863-0D0B-48F8-9E60-E035FD56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459EC3-B237-4B26-BCC3-C9E72F06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87157A-7150-4F7A-8843-424BCFAF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B64134-8107-47F0-9DE4-494A168B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4CBDF-105A-4B2F-82F7-F3A4A453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DEC59-C1AF-40F4-8631-E3818FC9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4F1A52-752B-4AA2-A240-A6925FF8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1FDAAC-8D5A-4554-8ADB-1710E641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EAC065-9C28-45E2-8F6B-92907D40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CBE91-B94E-46F9-977F-94E1E34B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7C0E20-B31F-4971-8B98-DCF296E7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0E22E9-E579-4E03-8BBD-206D09DF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43A58E-26C4-4D3E-996C-AD2D8A70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9C59E9-D72D-432A-A018-125A4A19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F33B5B-C0B0-4A5E-AC48-1906F3A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DA1C9F-DD70-45E3-A6ED-9EAEA5E9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64EB8B-A1E2-48B4-B6B2-7BC485EF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B6EB61-C39B-435C-9900-085C3467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6D5C14-7F55-4B7A-9ED6-9FE927F6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24E610-B979-4943-A4A4-1578826A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82EFB-3F1B-4188-8B05-46244374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CA699B-3902-4A56-B3A2-CA65C037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B01407-BD41-4B3E-A3BD-80D557E8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36B194-AACF-401F-A459-71623A0F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32B12B-BDF5-402F-8E83-3425D63A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9E26B7-015B-4F7E-9AF5-5B9B0B1D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F8D142-468F-490B-9F12-4BF667D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D2C899-57E9-43BA-91EF-3322152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50ADBD-A99E-4536-B067-FD252B78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A499CA-3258-451B-BF77-AFEA5EC1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5DF183-E823-47C6-8E75-42AC8C3D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965CA-108D-431D-B963-EE70E266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D6835F-0C54-4BA2-92BC-104AF139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4147EB-B22E-4675-AB09-B2021129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B253CCB-5315-4C64-8951-810D9CCE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D9A53E-7DB9-4843-B709-FDE0652D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E084C8-25B4-44B3-B0F0-96D1BB4D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80DA66-0EC3-44FD-A22A-4F285A03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D437BC-77A1-4870-B9B7-1FF0356E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CDA081-401E-4E0D-8D28-E1C73701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D9529E-23CB-435E-854D-D177F21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58121C-8C6D-48C5-BC27-8BE22D21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A017E-EC4C-4C7E-8D6F-360297AE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AEC616-751C-4EE7-A02A-57B42BBD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557BF6-764F-4B3E-AAAB-FD29D8D3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B013F2-BC08-4C45-9DDA-265A6EE2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68D892-5697-4372-B740-AA8B36E8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4EA83E-49E9-4CAF-9265-643B8B38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D87FCD-13C2-4794-8582-DB6FC9B7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9D7120-8EA8-4459-AC66-8CB41DE2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3B90E2-61AC-4D5C-9024-EA0B5096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FF5A9B-875B-44D9-85FC-EB6CDAF3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28DBA2-5122-4726-896E-1F96ED69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63F9B-6CAE-486B-9D47-A912455E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8901248-A0A5-4F11-949A-0A7E0E94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2A510B-C236-4C5D-BF18-642E085F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BD280B2-5DE0-4CC2-88CB-6F23EF5D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59F749-BFD7-4480-B806-4D313AC4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F5EB81E-8DD2-48CF-B7B4-AF4D3633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67BD85-104C-4F4C-BBDE-0601038E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C6EA63-A201-41F5-B879-73478D16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8B1CDE9-3655-43CE-B7D0-8F0448F4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E30087-A41A-4FE1-A45A-E14E30A7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AA53AF-D2FC-4DDB-B7E1-0F4E5490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D1AE6-149A-4017-BB71-9D7130B3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A06DEE-A0EB-4471-BB7E-8225BA5D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012DB8-4930-4143-BD99-34424DA0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7B6B4FB-44F8-4A1F-B07E-729AABC5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18F6CE8-526C-45F1-9A92-55BA992E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0B826FA-4AB6-4ACD-B3F1-8A42BC06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EE6145-6977-4B82-8677-4F322393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16F819D-C880-41EF-8172-242DD4FD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D272B2-4699-4AF1-9724-135A2930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6AF5042-2BF7-4ACE-922B-F8163AE1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0FB968-B2D6-4BC7-8579-39677E96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415D1-D5B9-4746-BBC7-86C21C43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6D305B-0C6A-4AF9-A4D7-94E8F6F9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BAA2E1-7851-42B5-A934-C51F7480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A41D177-C29C-4F8D-9510-5F000879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84F845-2053-4882-8796-3707EF6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C1376F-0091-4413-A94F-3EEE6F30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4D06ACF-0BC9-42AF-A6C4-DB851954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85A7FB-4A52-4F46-B844-9CCE43BD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4705CC-F093-4AEF-89FC-64C35EA6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F185D6-2947-450E-939F-95DFD2D9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FA187-7F5A-4CF8-BEE1-EAF57E73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2DFDF-E05E-4187-BFDD-8F7DDFCC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BA861-203B-4CE8-892A-C6E0D193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0199E-1E4B-4730-90B5-75E9C67B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E9D91-85BB-4123-A880-6588B2F0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E9177-5D39-4F1D-9F9B-D35A330C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DF3A9-B7D2-41EE-935D-1101BB99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BFC5D-F398-47B4-AC3C-B50AD23F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A50AB-6E72-488C-8E8D-6FFC10A7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94D20-AB0E-4894-8D0A-95EB14BA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21EBC-0366-4F8E-A31A-2EDE0165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E49FE-44A3-42DB-803C-4E40F583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E40D0-0895-45DB-A2FC-F2A4193B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24D81-B624-4128-A029-1A9A8B4B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906A2-D394-40DB-8B2B-20C4C5D6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BAF68-9EA0-4D80-884A-68255E8E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10232-64CD-4768-9652-04BC42F6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5C4BD-A4D1-4672-8CCE-0DA35F5D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971FC-1210-4B65-AC82-97D4D6F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2EAF1-5328-481D-B0F2-70F600FF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5D5F4-61EA-4B58-AE5E-6B53BE50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7CBCC-D82C-4C2E-814A-CC0100C5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4EE6A-D29B-455D-BCE0-4870270E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89D91-6C70-43A0-B933-BF45A7D8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05FAB-C343-4F89-9749-D81467C3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7A9E7-A73E-4671-8318-4549D176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2D80E-0196-4FCC-940A-D230F426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501B8-4234-456B-BBEE-947BF544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96C8A-21A7-4147-9057-52A11C35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6B813-4282-4E5E-9DA5-E17C1DE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92F96-AFDC-4368-A30C-26E0A3B9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F9B8E-EDF1-499D-AB6C-A700D651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C23DC-F21C-43FE-93A6-FEDC2EEF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F51CC-93B8-4BE0-8B83-4AFE82C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68AC9-575D-41B2-B991-61100403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E8DBC-4226-48BD-8C3F-B23F5FDD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EFB88-3BCB-4497-8B58-CEC2F199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5CDDE-0283-4A01-A136-0E75CF85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4CDBE-1FB3-45A9-BE6D-90784D10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D7888-2946-458D-8019-EEEE6C38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D7ED1D-E1B2-4053-9832-B24F844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F5911-D6F7-4632-99EC-88D39D4D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FDF6B-0CF3-474E-8C69-416D4E14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C7AE2-7FBF-4EEF-B3B6-279C4E0F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3D2C3-3A95-4916-817D-E73F140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AEDAE-990F-4C2E-975B-3A4DE9CD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EBD95-3D2A-4DA9-9CD2-FF850015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05047-609B-4B08-915C-221AC0AE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D9724-7C54-4A25-9515-75A39791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2E460-A57C-47B2-A0CD-55E0E808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E9733-C46C-446D-A61B-4F7B759C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C7174-A72F-4639-8331-DC2524F7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131DE-1A7A-4384-913E-9D242131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82B62-D561-4F8D-BFE5-C6A8158F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61DE4-CB63-43F8-9B49-0898AB20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53C42-C179-4BF9-9B2E-B27D4D42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0A05D-FC54-4B01-82D5-81D1140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4DBECE-BC35-4861-8487-9CC262E4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705BD-D266-4BEE-B414-0BAD3D03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556EF-7434-4360-914A-2F6A8330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4236FD-4FF4-41DF-BD54-BA0B9D0A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E3043-0FD2-45D2-8664-8EBDD3A1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67C61D-BEC9-425F-9F20-8094283F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4EF469-79FA-49F8-9EC7-EAE449A8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2E9AC0-D70A-4C09-A710-A7ED41BC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DA0F75-E084-470E-8576-F6A46A33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0D33DD-6784-44EE-81A0-CADC8D5B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579A0A-6B5A-402D-8CA9-2FA7504E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9EF63-658F-4FCE-B87A-16CAC9F0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243658-06C6-4850-BAF5-D7C83A55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8CBC03-1AF7-4C36-A210-E69D6F97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80EF26-85E0-4007-8A6C-994AC74F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6494A1-D56E-41A3-82F2-B407C6D4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FAFAE-180E-489B-A733-5B77CBC8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907640-13D0-45F2-9AE6-BB7B4A51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8B9552-B6D6-4DF0-908D-0D1D26B7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6C0D08-E8C9-4F6E-B94E-9BC9585E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4" name="Picture 9" descr="C:\Users\dak\Desktop\hep_logo [klein].jpg"/>
          <p:cNvPicPr/>
          <p:nvPr/>
        </p:nvPicPr>
        <p:blipFill>
          <a:blip r:embed="rId2"/>
          <a:stretch/>
        </p:blipFill>
        <p:spPr>
          <a:xfrm>
            <a:off x="114480" y="6286680"/>
            <a:ext cx="155520" cy="483840"/>
          </a:xfrm>
          <a:prstGeom prst="rect">
            <a:avLst/>
          </a:prstGeom>
          <a:ln w="0">
            <a:noFill/>
          </a:ln>
        </p:spPr>
      </p:pic>
      <p:sp>
        <p:nvSpPr>
          <p:cNvPr id="5" name="Text Box 8"/>
          <p:cNvSpPr/>
          <p:nvPr/>
        </p:nvSpPr>
        <p:spPr>
          <a:xfrm>
            <a:off x="214200" y="6572160"/>
            <a:ext cx="385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der bildungsverlag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 www.hep-verlag.ch</a:t>
            </a:r>
            <a:endParaRPr b="0" lang="en-US" sz="9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148360" y="6583320"/>
            <a:ext cx="406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      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Brunetti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11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Volkswirtschaftslehre – Ausgabe 2017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11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978-3-0355-0799-7</a:t>
            </a:r>
            <a:endParaRPr b="0" lang="en-US" sz="9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7" name="Picture 9" descr="C:\Users\dak\Desktop\hep_logo [klein].jpg"/>
          <p:cNvPicPr/>
          <p:nvPr/>
        </p:nvPicPr>
        <p:blipFill>
          <a:blip r:embed="rId3"/>
          <a:stretch/>
        </p:blipFill>
        <p:spPr>
          <a:xfrm>
            <a:off x="114480" y="6286680"/>
            <a:ext cx="155520" cy="483840"/>
          </a:xfrm>
          <a:prstGeom prst="rect">
            <a:avLst/>
          </a:prstGeom>
          <a:ln w="0">
            <a:noFill/>
          </a:ln>
        </p:spPr>
      </p:pic>
      <p:sp>
        <p:nvSpPr>
          <p:cNvPr id="8" name="Text Box 8"/>
          <p:cNvSpPr/>
          <p:nvPr/>
        </p:nvSpPr>
        <p:spPr>
          <a:xfrm>
            <a:off x="214200" y="6572160"/>
            <a:ext cx="385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der bildungsverlag </a:t>
            </a:r>
            <a:r>
              <a:rPr b="0" lang="de-CH" sz="1100" spc="-1" strike="noStrike">
                <a:solidFill>
                  <a:srgbClr val="000000"/>
                </a:solidFill>
                <a:latin typeface="Tunga"/>
              </a:rPr>
              <a:t>•</a:t>
            </a:r>
            <a:r>
              <a:rPr b="0" lang="de-CH" sz="900" spc="-1" strike="noStrike">
                <a:solidFill>
                  <a:srgbClr val="000000"/>
                </a:solidFill>
                <a:latin typeface="Frutiger 45 Light"/>
              </a:rPr>
              <a:t> www.hep-verlag.ch</a:t>
            </a:r>
            <a:endParaRPr b="0" lang="en-US" sz="9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8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B8E6-319E-4464-844B-4214A6B8024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1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005D-68AB-4CB0-9781-6D561EDDB3F9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4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6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B270-5F2A-43DF-86A1-AB1D56C45F8C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9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1F64-6720-4E31-B964-6B9D390EE6F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2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8517-D00D-4FA9-AE7A-980ECF4DB65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5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58BF-F767-4393-9433-29A90062857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8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14F8-406F-4AD8-B8A2-A793D214BE1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1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67BB-F4DE-45A9-BC0A-FCACA2232DA1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4FA9-CA91-445E-906C-9973C01A3C15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9BFC-EF19-4B68-9AFA-284C648B871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E3A4-786A-42D8-97B2-C2A4D2FA79DD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12EF-97BA-4712-9420-64A644453338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94A1-07ED-4F5B-ADE5-0E437B843FAB}" type="slidenum">
              <a:rPr b="0" lang="de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9"/>
          </p:nvPr>
        </p:nvSpPr>
        <p:spPr>
          <a:xfrm>
            <a:off x="5428800" y="599616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0"/>
          </p:nvPr>
        </p:nvSpPr>
        <p:spPr>
          <a:xfrm>
            <a:off x="6457680" y="6178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D84A-7373-40A9-9043-B612E9CAAC6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2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0F28-EE88-4A8F-8652-C87E1C98B66B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5"/>
          </p:nvPr>
        </p:nvSpPr>
        <p:spPr>
          <a:xfrm>
            <a:off x="542880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A160-CA5A-424F-AB3B-97E447FB110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868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Calibri"/>
              </a:rPr>
              <a:t>L’économie de marché</a:t>
            </a:r>
            <a:br>
              <a:rPr sz="4500"/>
            </a:br>
            <a:r>
              <a:rPr b="1" lang="fr-FR" sz="4500" spc="-1" strike="noStrike">
                <a:solidFill>
                  <a:srgbClr val="000000"/>
                </a:solidFill>
                <a:latin typeface="Calibri"/>
              </a:rPr>
              <a:t>et le rôle de l’Ét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789" name="Picture 6" descr="karikatur_thaves"/>
          <p:cNvPicPr/>
          <p:nvPr/>
        </p:nvPicPr>
        <p:blipFill>
          <a:blip r:embed="rId1"/>
          <a:stretch/>
        </p:blipFill>
        <p:spPr>
          <a:xfrm>
            <a:off x="506520" y="2803680"/>
            <a:ext cx="8057880" cy="236196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9"/>
          <p:cNvSpPr/>
          <p:nvPr/>
        </p:nvSpPr>
        <p:spPr>
          <a:xfrm>
            <a:off x="1763640" y="537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a naissance de l’économie de marché : « J’aimerais avoir une pierre. » « J’aimerais avoir un bâton. »</a:t>
            </a: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4" name="Text Box 10"/>
          <p:cNvSpPr/>
          <p:nvPr/>
        </p:nvSpPr>
        <p:spPr>
          <a:xfrm>
            <a:off x="324000" y="1111320"/>
            <a:ext cx="8299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 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ystèmes économiques : économie de marché ou économie planifiée ?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efaa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faa00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ternalités et politique environnement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partition des revenus et redistribu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324000" y="939960"/>
            <a:ext cx="829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rôle central des prix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prix relatifs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sont essentiels dans la coordination des millions de décisions individuell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9" name="Text Box 7"/>
          <p:cNvSpPr/>
          <p:nvPr/>
        </p:nvSpPr>
        <p:spPr>
          <a:xfrm>
            <a:off x="324000" y="3741840"/>
            <a:ext cx="8391240" cy="82548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Prix relatifs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ix d’un bien par rapport au prix d’autres bien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2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3" name="Text Box 7"/>
          <p:cNvSpPr/>
          <p:nvPr/>
        </p:nvSpPr>
        <p:spPr>
          <a:xfrm>
            <a:off x="324000" y="939960"/>
            <a:ext cx="839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prix agissent comme une « main invisible » et guident les ressources au bon endroit, là où elles sont nécessité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prix mènent à une 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répartition des ressources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efficac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4" name="Text Box 7"/>
          <p:cNvSpPr/>
          <p:nvPr/>
        </p:nvSpPr>
        <p:spPr>
          <a:xfrm>
            <a:off x="324000" y="4786200"/>
            <a:ext cx="8391240" cy="82548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Répartition des ressource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cision portant sur la manière d’utiliser des ressources limité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48" name="Text Box 11"/>
          <p:cNvSpPr/>
          <p:nvPr/>
        </p:nvSpPr>
        <p:spPr>
          <a:xfrm>
            <a:off x="333360" y="1119240"/>
            <a:ext cx="8381880" cy="41173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50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442800" indent="-350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Quatre fonctions d’orientation des prix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442800" indent="-350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442800" indent="-3506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Indication sur la raret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442800" indent="-3506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442800" indent="-3506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Répartition des ressources effica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442800" indent="-3506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442800" indent="-3506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oordination entre offreurs et demandeur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442800" indent="-3506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442800" indent="-3506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ignalisation d’un potentiel d’innova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442800" indent="-3506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2" name="Text Box 7"/>
          <p:cNvSpPr/>
          <p:nvPr/>
        </p:nvSpPr>
        <p:spPr>
          <a:xfrm>
            <a:off x="324000" y="939960"/>
            <a:ext cx="829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Efficience et bien-êtr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consommateurs ont diverses propensions à payer pour un bien préci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Mais sur le marché, tous les consommateurs paient le même prix pour ce bien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6" name="Text Box 7"/>
          <p:cNvSpPr/>
          <p:nvPr/>
        </p:nvSpPr>
        <p:spPr>
          <a:xfrm>
            <a:off x="324000" y="939960"/>
            <a:ext cx="829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Le surplus du consommateur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urplus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u consomateur A = Propension à payer du consommateur A – Prix du bien convoité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urplus des consommateurs : somme des surplus des consommateurs individuel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324000" y="4143240"/>
            <a:ext cx="8391240" cy="155700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Bien-être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rplus total généré sur un marché. Il correspond à la somme des surplus du consommateur et des surplus du producteur, ainsi qu’au niveau d’approvisionnement économique d’un pay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1" name="Text Box 7"/>
          <p:cNvSpPr/>
          <p:nvPr/>
        </p:nvSpPr>
        <p:spPr>
          <a:xfrm>
            <a:off x="324000" y="939960"/>
            <a:ext cx="82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Le surplus du consommateur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2" name="ZoneTexte 2"/>
          <p:cNvSpPr/>
          <p:nvPr/>
        </p:nvSpPr>
        <p:spPr>
          <a:xfrm>
            <a:off x="5364000" y="220500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omme des surplus des consommateurs individuels (surface jaune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863" name="Image 3" descr=""/>
          <p:cNvPicPr/>
          <p:nvPr/>
        </p:nvPicPr>
        <p:blipFill>
          <a:blip r:embed="rId1"/>
          <a:stretch/>
        </p:blipFill>
        <p:spPr>
          <a:xfrm>
            <a:off x="395280" y="1440000"/>
            <a:ext cx="445932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7" name="Text Box 7"/>
          <p:cNvSpPr/>
          <p:nvPr/>
        </p:nvSpPr>
        <p:spPr>
          <a:xfrm>
            <a:off x="324000" y="939960"/>
            <a:ext cx="829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urplus du producteur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différents producteurs ont des coûts variés pour la production d’un certain bien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ur le marché, les producteurs obtiennent le même prix pour ce bien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urplus du producteur X = Prix – Coûts de production X.</a:t>
            </a:r>
            <a:r>
              <a:rPr b="0" lang="de-CH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1" name="Text Box 7"/>
          <p:cNvSpPr/>
          <p:nvPr/>
        </p:nvSpPr>
        <p:spPr>
          <a:xfrm>
            <a:off x="343080" y="96048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urplus du producteur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2" name="ZoneTexte 2"/>
          <p:cNvSpPr/>
          <p:nvPr/>
        </p:nvSpPr>
        <p:spPr>
          <a:xfrm>
            <a:off x="5580000" y="2438280"/>
            <a:ext cx="28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omme des surplus des producteurs individuels (surface bleue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873" name="Image 11" descr=""/>
          <p:cNvPicPr/>
          <p:nvPr/>
        </p:nvPicPr>
        <p:blipFill>
          <a:blip r:embed="rId1"/>
          <a:stretch/>
        </p:blipFill>
        <p:spPr>
          <a:xfrm>
            <a:off x="442800" y="1440000"/>
            <a:ext cx="445932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7" name="Text Box 7"/>
          <p:cNvSpPr/>
          <p:nvPr/>
        </p:nvSpPr>
        <p:spPr>
          <a:xfrm>
            <a:off x="324000" y="939960"/>
            <a:ext cx="829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Effet d’un prix minimum sur le bien-être économique global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emple : un prix minimum légal est fixé plus haut que le prix d’équilibr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prix trop élévé émet un signal erroné : les producteurs sont incités à augmenter leur production. Il y a un excédent d’offr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u point de vue du bien-être, un prix minimum est inefficace pour soutenir les producteur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1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2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1835280" y="1138320"/>
            <a:ext cx="664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« Ce n’est pas de la bonne volonté du boucher, du brasseur ou du boulanger que nous devons attendre notre dîner, mais du fait qu’ils recherchent leur propre intérêt. [… ] L’individu ne pense qu’à sa propre sécurité et à son propre intérêt. Mais en cherchant à atteindre son propre objectif, il est conduit par une main invisible à en atteindre un autre qui n’entrait nullement dans ses intentions. C’est-à-dire qu’en ne recherchant que son intérêt personnel, il travaille souvent aussi dans l’intérêt de la société, et d’une manière bien plus efficace que s’il en avait vraiment eu l’intention. » </a:t>
            </a:r>
            <a:endParaRPr b="0" lang="en-US" sz="22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dam Smith, économiste et philosophe écossais (1723-1790)</a:t>
            </a:r>
            <a:endParaRPr b="0" lang="en-US" sz="22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795" name="Picture 8" descr="F:\hep\PP-Folien\Kapitel 2\AdamSmith.jpg"/>
          <p:cNvPicPr/>
          <p:nvPr/>
        </p:nvPicPr>
        <p:blipFill>
          <a:blip r:embed="rId1"/>
          <a:stretch/>
        </p:blipFill>
        <p:spPr>
          <a:xfrm>
            <a:off x="322200" y="1138320"/>
            <a:ext cx="1292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1" name="Text Box 7"/>
          <p:cNvSpPr/>
          <p:nvPr/>
        </p:nvSpPr>
        <p:spPr>
          <a:xfrm>
            <a:off x="5940360" y="939960"/>
            <a:ext cx="26830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onséquence : la quantité consommée se réduit de q* à q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bien-être se réduit à hauteur de la zone rouge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882" name="Image 1" descr=""/>
          <p:cNvPicPr/>
          <p:nvPr/>
        </p:nvPicPr>
        <p:blipFill>
          <a:blip r:embed="rId1"/>
          <a:stretch/>
        </p:blipFill>
        <p:spPr>
          <a:xfrm>
            <a:off x="322200" y="1073160"/>
            <a:ext cx="4886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5" name="Text Box 7"/>
          <p:cNvSpPr/>
          <p:nvPr/>
        </p:nvSpPr>
        <p:spPr>
          <a:xfrm>
            <a:off x="324000" y="939960"/>
            <a:ext cx="829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Efficience de produc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886" name="Image 7" descr=""/>
          <p:cNvPicPr/>
          <p:nvPr/>
        </p:nvPicPr>
        <p:blipFill>
          <a:blip r:embed="rId1"/>
          <a:stretch/>
        </p:blipFill>
        <p:spPr>
          <a:xfrm>
            <a:off x="2109960" y="2349360"/>
            <a:ext cx="49240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8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0" name="Text Box 10"/>
          <p:cNvSpPr/>
          <p:nvPr/>
        </p:nvSpPr>
        <p:spPr>
          <a:xfrm>
            <a:off x="324000" y="1111320"/>
            <a:ext cx="8299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ystèmes économiques : économie de marché ou économie planifiée ?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efaa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faa00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ternalités et politique environnement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partition des revenus et redistribu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4" name="Text Box 7"/>
          <p:cNvSpPr/>
          <p:nvPr/>
        </p:nvSpPr>
        <p:spPr>
          <a:xfrm>
            <a:off x="324000" y="93996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5" name="Text Box 11"/>
          <p:cNvSpPr/>
          <p:nvPr/>
        </p:nvSpPr>
        <p:spPr>
          <a:xfrm>
            <a:off x="333360" y="1500120"/>
            <a:ext cx="8381880" cy="375156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Les tâche de l’État pour maintenir le fonctionnement de l’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Garantie des droits contractuels et des droits de propriét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Réglementations efficace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orrection des défaillances du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99" name="Text Box 11"/>
          <p:cNvSpPr/>
          <p:nvPr/>
        </p:nvSpPr>
        <p:spPr>
          <a:xfrm>
            <a:off x="333360" y="1285920"/>
            <a:ext cx="8381880" cy="4597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. Garantie des droits issus des contrats et droits de propriét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0" name="Text Box 7"/>
          <p:cNvSpPr/>
          <p:nvPr/>
        </p:nvSpPr>
        <p:spPr>
          <a:xfrm>
            <a:off x="324000" y="2428920"/>
            <a:ext cx="829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 système judiciaire est un présupposé crucial pour le bon fonctionnement d’une économie de marché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i les droits contractuels et de propriété ne sont pas garantis, les agents économiques réduisent leurs échanges à leur entourage de confiance, ce qui produit des relations économiques informelles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3" name="Text Box 11"/>
          <p:cNvSpPr/>
          <p:nvPr/>
        </p:nvSpPr>
        <p:spPr>
          <a:xfrm>
            <a:off x="333360" y="1285920"/>
            <a:ext cx="8381880" cy="4597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. Réglementations efficace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4" name="Text Box 7"/>
          <p:cNvSpPr/>
          <p:nvPr/>
        </p:nvSpPr>
        <p:spPr>
          <a:xfrm>
            <a:off x="324000" y="2428920"/>
            <a:ext cx="829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État poursuit des objectifs politiques qui mènent à des interventions dans l’économie de marché (régulations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État doit atteindre ses objectifs en minimisant les atteintes au bien-êtr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 instrument utile à cet effet : l’analyse coûts-bénéfic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8" name="Text Box 11"/>
          <p:cNvSpPr/>
          <p:nvPr/>
        </p:nvSpPr>
        <p:spPr>
          <a:xfrm>
            <a:off x="333360" y="1285920"/>
            <a:ext cx="8381880" cy="4597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3. Correction des défaillances du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09" name="Text Box 7"/>
          <p:cNvSpPr/>
          <p:nvPr/>
        </p:nvSpPr>
        <p:spPr>
          <a:xfrm>
            <a:off x="324000" y="200016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Défaillance du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tuation d’un marché incapable d’assurer une répartition efficiente des ressources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333360" y="3490920"/>
            <a:ext cx="8381880" cy="22885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Quatre types de défaillances du marché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. Pouvoir de monopo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. Externalité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3. Biens public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4. Asymétrie d’informa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4" name="Text Box 11"/>
          <p:cNvSpPr/>
          <p:nvPr/>
        </p:nvSpPr>
        <p:spPr>
          <a:xfrm>
            <a:off x="333360" y="1285920"/>
            <a:ext cx="8381880" cy="4597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1. Pouvoir de monopo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24000" y="2108160"/>
            <a:ext cx="829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e entreprise est seule à offrir certains biens ou services sur un marché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 détenteur du monopole peut influencer les quantités et les prix de manière à maximiser son profit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onséquence : les prix sont trop hauts et les quantités trop faibl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emple : les services postaux pour les lettres en dessous de 50 gramm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8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333360" y="1285920"/>
            <a:ext cx="8381880" cy="4597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. Externalité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0" name="Text Box 7"/>
          <p:cNvSpPr/>
          <p:nvPr/>
        </p:nvSpPr>
        <p:spPr>
          <a:xfrm>
            <a:off x="324000" y="2263680"/>
            <a:ext cx="829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Nous étudions les externalités négative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 comportement induit des coûts pour la collectivité que son auteur ne doit pas porter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externalités ne sont pas considérées dans les prix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emple : la pollution de l’air par les gaz d’échappement des voitur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4" name="Text Box 11"/>
          <p:cNvSpPr/>
          <p:nvPr/>
        </p:nvSpPr>
        <p:spPr>
          <a:xfrm>
            <a:off x="333360" y="1285920"/>
            <a:ext cx="8381880" cy="4597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3. Biens public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5" name="Text Box 7"/>
          <p:cNvSpPr/>
          <p:nvPr/>
        </p:nvSpPr>
        <p:spPr>
          <a:xfrm>
            <a:off x="324000" y="2143080"/>
            <a:ext cx="829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Biens dont l’utilisation est non rivale et non exclusive : personne ne peut être exclu de leur utilisation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non-exclusivité implique que personne n’est prêt à payer pour l’utilisation d’un bien public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Solution : l’État met le bien public à disposition et le finance via les impôt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emple : feu d’artific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324000" y="1111320"/>
            <a:ext cx="8299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efaa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faa00"/>
                </a:solidFill>
                <a:latin typeface="Calibri"/>
              </a:rPr>
              <a:t>Systèmes économiques : économie de marché ou économie planifiée ?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ternalités et politique environnement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partition des revenus et redistribu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8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29" name="Text Box 7"/>
          <p:cNvSpPr/>
          <p:nvPr/>
        </p:nvSpPr>
        <p:spPr>
          <a:xfrm>
            <a:off x="324000" y="2133720"/>
            <a:ext cx="829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un des participants à une transaction dispose de meilleures informations que les autres, par exemple dans le cas de l’assurance maladi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eut parfois être considérée comme une défaillance de marché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Il existe également des solutions de marché, telles que les franchises dans le domaine des assuranc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322200" y="1308240"/>
            <a:ext cx="8382240" cy="4597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4. Asymétrie d’informa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3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4" name="Text Box 7"/>
          <p:cNvSpPr/>
          <p:nvPr/>
        </p:nvSpPr>
        <p:spPr>
          <a:xfrm>
            <a:off x="324000" y="121428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ypes de bien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aractéristiques des bien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5" name="Text Box 7"/>
          <p:cNvSpPr/>
          <p:nvPr/>
        </p:nvSpPr>
        <p:spPr>
          <a:xfrm>
            <a:off x="324000" y="2643120"/>
            <a:ext cx="8391240" cy="1191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Rivalit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aractéristique d’un bien dont l’utilisation empêche tout autre acteur économique de l’utiliser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6" name="Text Box 7"/>
          <p:cNvSpPr/>
          <p:nvPr/>
        </p:nvSpPr>
        <p:spPr>
          <a:xfrm>
            <a:off x="318960" y="4643280"/>
            <a:ext cx="8391600" cy="1191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Exclusivit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aractéristique d’un bien selon laquelle un agent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ut empêcher un autre de l’utiliser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0" name="Text Box 7"/>
          <p:cNvSpPr/>
          <p:nvPr/>
        </p:nvSpPr>
        <p:spPr>
          <a:xfrm>
            <a:off x="324000" y="1214280"/>
            <a:ext cx="82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ype de bien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942" name="Image 2" descr=""/>
          <p:cNvPicPr/>
          <p:nvPr/>
        </p:nvPicPr>
        <p:blipFill>
          <a:blip r:embed="rId1"/>
          <a:stretch/>
        </p:blipFill>
        <p:spPr>
          <a:xfrm>
            <a:off x="387360" y="2368440"/>
            <a:ext cx="81723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5" name="Text Box 10"/>
          <p:cNvSpPr/>
          <p:nvPr/>
        </p:nvSpPr>
        <p:spPr>
          <a:xfrm>
            <a:off x="324000" y="1111320"/>
            <a:ext cx="8299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ystèmes économiques : économie de marché ou économie planifiée ?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efaa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efaa00"/>
                </a:solidFill>
                <a:latin typeface="Calibri"/>
              </a:rPr>
              <a:t>Externalités et politique environnement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partition des revenus et redistribu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7" name="Text Box 7"/>
          <p:cNvSpPr/>
          <p:nvPr/>
        </p:nvSpPr>
        <p:spPr>
          <a:xfrm>
            <a:off x="324000" y="1214280"/>
            <a:ext cx="829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Les coûts économiques des externalité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Externalité et politique environnement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896080" y="1922400"/>
            <a:ext cx="295272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: Courbe de l’offre, lorsque le producteur assume les coûts sociaux de sa production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: Courbe de l’offre sans intervention de l’état. Le producteur n’assume que les coûts privé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950" name="Image 1" descr=""/>
          <p:cNvPicPr/>
          <p:nvPr/>
        </p:nvPicPr>
        <p:blipFill>
          <a:blip r:embed="rId1"/>
          <a:stretch/>
        </p:blipFill>
        <p:spPr>
          <a:xfrm>
            <a:off x="422280" y="2060640"/>
            <a:ext cx="54212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52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Externalité et politique environnement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53" name="Text Box 7"/>
          <p:cNvSpPr/>
          <p:nvPr/>
        </p:nvSpPr>
        <p:spPr>
          <a:xfrm>
            <a:off x="539640" y="1241280"/>
            <a:ext cx="829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effets externes surviennent essentiellement dans le domaine de l’environnement.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n politique de l’environnement, on distingue les approches et mesures suivante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grpSp>
        <p:nvGrpSpPr>
          <p:cNvPr id="954" name="Groupe 3"/>
          <p:cNvGrpSpPr/>
          <p:nvPr/>
        </p:nvGrpSpPr>
        <p:grpSpPr>
          <a:xfrm>
            <a:off x="328680" y="3700440"/>
            <a:ext cx="8491320" cy="2808360"/>
            <a:chOff x="328680" y="3700440"/>
            <a:chExt cx="8491320" cy="2808360"/>
          </a:xfrm>
        </p:grpSpPr>
        <p:pic>
          <p:nvPicPr>
            <p:cNvPr id="955" name="Image 1" descr=""/>
            <p:cNvPicPr/>
            <p:nvPr/>
          </p:nvPicPr>
          <p:blipFill>
            <a:blip r:embed="rId1"/>
            <a:stretch/>
          </p:blipFill>
          <p:spPr>
            <a:xfrm>
              <a:off x="328680" y="3700440"/>
              <a:ext cx="849132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Rectangle 9"/>
            <p:cNvSpPr/>
            <p:nvPr/>
          </p:nvSpPr>
          <p:spPr>
            <a:xfrm>
              <a:off x="328680" y="3700440"/>
              <a:ext cx="7934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ung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1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Externalité et politique environnement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324000" y="1060560"/>
            <a:ext cx="829944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olitique environnementale en Suiss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Combinaison de différents instrument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Tendance à une utilisation des instruments de marché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Politique environnementale internation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Protocole de Kyoto, qui est un accord international visant la baisse globale des émisssions de CO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La Suisse a signé et mis en œuvre le centime climatique et la taxe sur le CO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La Conférence de Paris de décembre 2015 a fixé pour objectif de limiter le réchauffement climatique à moins de 2°C par rapport à l’ère pré-industriell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3" name="Text Box 10"/>
          <p:cNvSpPr/>
          <p:nvPr/>
        </p:nvSpPr>
        <p:spPr>
          <a:xfrm>
            <a:off x="324000" y="1111320"/>
            <a:ext cx="8299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 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ystèmes économiques : économie de marché ou économie planifiée ?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ternalités et politique environnement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efaa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faa00"/>
                </a:solidFill>
                <a:latin typeface="Calibri"/>
              </a:rPr>
              <a:t>Répartition des revenus et redistribu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olitique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5. Répartition des revenus et redistribu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6" name="Text Box 7"/>
          <p:cNvSpPr/>
          <p:nvPr/>
        </p:nvSpPr>
        <p:spPr>
          <a:xfrm>
            <a:off x="322200" y="1239840"/>
            <a:ext cx="829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Mesurer la répartition des revenu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Coefficient de Gini = (surface orange/triangle OAB) x100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967" name="Image 8" descr=""/>
          <p:cNvPicPr/>
          <p:nvPr/>
        </p:nvPicPr>
        <p:blipFill>
          <a:blip r:embed="rId1"/>
          <a:stretch/>
        </p:blipFill>
        <p:spPr>
          <a:xfrm>
            <a:off x="2484360" y="2535120"/>
            <a:ext cx="41752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1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69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5. Répartition des revenus et redistribu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322200" y="123984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Répartition des revenus de la Suisse en comparaison internation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pic>
        <p:nvPicPr>
          <p:cNvPr id="971" name="Image 5" descr=""/>
          <p:cNvPicPr/>
          <p:nvPr/>
        </p:nvPicPr>
        <p:blipFill>
          <a:blip r:embed="rId1"/>
          <a:stretch/>
        </p:blipFill>
        <p:spPr>
          <a:xfrm>
            <a:off x="322200" y="2349360"/>
            <a:ext cx="3187800" cy="3492720"/>
          </a:xfrm>
          <a:prstGeom prst="rect">
            <a:avLst/>
          </a:prstGeom>
          <a:ln w="0">
            <a:noFill/>
          </a:ln>
        </p:spPr>
      </p:pic>
      <p:pic>
        <p:nvPicPr>
          <p:cNvPr id="972" name="Image 7" descr=""/>
          <p:cNvPicPr/>
          <p:nvPr/>
        </p:nvPicPr>
        <p:blipFill>
          <a:blip r:embed="rId2"/>
          <a:stretch/>
        </p:blipFill>
        <p:spPr>
          <a:xfrm>
            <a:off x="4033800" y="2349360"/>
            <a:ext cx="3683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2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Systèmes économiques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3" name="Text Box 11"/>
          <p:cNvSpPr/>
          <p:nvPr/>
        </p:nvSpPr>
        <p:spPr>
          <a:xfrm>
            <a:off x="333360" y="1643040"/>
            <a:ext cx="8381880" cy="265428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Deux systèmes économiques fondamentaux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efaa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Économie planifié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7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4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6" name="Text Box 10"/>
          <p:cNvSpPr/>
          <p:nvPr/>
        </p:nvSpPr>
        <p:spPr>
          <a:xfrm>
            <a:off x="324000" y="1111320"/>
            <a:ext cx="8299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Structure du chapitre 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ystèmes économiques : économie de marché ou économie planifiée ?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ix et efficienc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ôle de l’État dans une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xternalités et politique environnemental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partition des revenus et redistribu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efaa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faa00"/>
                </a:solidFill>
                <a:latin typeface="Calibri"/>
              </a:rPr>
              <a:t>La politique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8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79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6. La politique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80" name="Text Box 7"/>
          <p:cNvSpPr/>
          <p:nvPr/>
        </p:nvSpPr>
        <p:spPr>
          <a:xfrm>
            <a:off x="276120" y="4221000"/>
            <a:ext cx="8391600" cy="1191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Défaillance de l’État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aptitude de l’État à corriger les allocations inefficientes d’une économie de marché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81" name="Text Box 7"/>
          <p:cNvSpPr/>
          <p:nvPr/>
        </p:nvSpPr>
        <p:spPr>
          <a:xfrm>
            <a:off x="298440" y="123984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politique économique cherche à comprendre comment survient une défaillance de l’État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82" name="Text Box 7"/>
          <p:cNvSpPr/>
          <p:nvPr/>
        </p:nvSpPr>
        <p:spPr>
          <a:xfrm>
            <a:off x="276120" y="2421000"/>
            <a:ext cx="8391600" cy="1191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Politique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Branche des sciences économiques qui analyse les processus politiques par des concepts économiqu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84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85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6. La politique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86" name="Text Box 7"/>
          <p:cNvSpPr/>
          <p:nvPr/>
        </p:nvSpPr>
        <p:spPr>
          <a:xfrm>
            <a:off x="324000" y="1197000"/>
            <a:ext cx="829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Incitations pour la politique et l’administration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Incitations pour les politiciens et politicienne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Prendre des mesures pour être réelu ;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Prendre des mesures qui favorisent leurs propres intérêts ou ceux de certains group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Incitations pour l’administration 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L’administration se trouve dans une situation de monopole ;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- Le risque est que cette position soit mise à profit sans contrôle hiérarchiqu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7"/>
          <p:cNvSpPr/>
          <p:nvPr/>
        </p:nvSpPr>
        <p:spPr>
          <a:xfrm>
            <a:off x="324000" y="1143000"/>
            <a:ext cx="829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Aspect problématique des groupes d’intérêt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Recherche (improductive) de rente via des processus politiques 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Recherche de rent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 petits groupes homogènes (p.ex. association de paysans) sont mieux organisés et plus influents que certains grands groupes hétérogènes (p.ex. associations de consommateurs)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88" name="Text Box 7"/>
          <p:cNvSpPr/>
          <p:nvPr/>
        </p:nvSpPr>
        <p:spPr>
          <a:xfrm>
            <a:off x="277920" y="4595760"/>
            <a:ext cx="8391240" cy="155700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Recherche de rent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oche qui consiste à utiliser les ressources, non pour produire, mais pour atteindre une redistribution servant ses propres intérêt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89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990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6. La politique économiqu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6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Systèmes économiques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333360" y="1285920"/>
            <a:ext cx="8381880" cy="4597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1.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324000" y="2633760"/>
            <a:ext cx="829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a décisions concernant la production et la consommation de biens sont faites de manière décentralisée via les marché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prix coordonnent les millions de décisions des agents économiqu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Systèmes économiques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333360" y="1285920"/>
            <a:ext cx="8381880" cy="4597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1. Économi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324000" y="207180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ans les pays industrialisés, le terme d’</a:t>
            </a:r>
            <a:r>
              <a:rPr b="0" i="1" lang="de-CH" sz="2400" spc="-1" strike="noStrike">
                <a:solidFill>
                  <a:srgbClr val="000000"/>
                </a:solidFill>
                <a:latin typeface="Calibri"/>
              </a:rPr>
              <a:t>économie sociale de marché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est souvent utilisé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324000" y="3857760"/>
            <a:ext cx="8391240" cy="228852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Économie sociale de marché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ystème économique fondé sur l’économie de marché dans lequel l’État procède aux redistributions de revenus et de patrimoine relatives à la politique qu’il a définie. Le but est d’atténuer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ifférences social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Systèmes économiques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333360" y="1285920"/>
            <a:ext cx="8381880" cy="4597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2. Économie planifié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324000" y="2370240"/>
            <a:ext cx="829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Deux particularité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es biens de production appartiennent exclusivement à l’État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Une autorité étatique de planification décide de manière centrale de la production, donc de la consommation de biens et servic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2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Systèmes économiques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3" name="Text Box 11"/>
          <p:cNvSpPr/>
          <p:nvPr/>
        </p:nvSpPr>
        <p:spPr>
          <a:xfrm>
            <a:off x="333360" y="1285920"/>
            <a:ext cx="8381880" cy="459720"/>
          </a:xfrm>
          <a:prstGeom prst="rect">
            <a:avLst/>
          </a:prstGeom>
          <a:solidFill>
            <a:srgbClr val="ffd9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2. Économie planifiée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324000" y="2131920"/>
            <a:ext cx="829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économie planifiée échoue aux points suivants :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Incapacité de l’autorité centrale de collecter et traiter toutes les informations nécessair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Risque que l’autorité centrale abuse de ses prérogatives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Pas d’incitations à la performance, vu que cette dernière n’est pas intéressante en raison de l’absence de propriété privée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6"/>
          <p:cNvSpPr/>
          <p:nvPr/>
        </p:nvSpPr>
        <p:spPr>
          <a:xfrm>
            <a:off x="4695840" y="1073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7975440" y="144360"/>
            <a:ext cx="71928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7" name="Rectangle 2"/>
          <p:cNvSpPr/>
          <p:nvPr/>
        </p:nvSpPr>
        <p:spPr>
          <a:xfrm>
            <a:off x="322200" y="136440"/>
            <a:ext cx="7392960" cy="649440"/>
          </a:xfrm>
          <a:prstGeom prst="rect">
            <a:avLst/>
          </a:prstGeom>
          <a:solidFill>
            <a:srgbClr val="e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Calibri"/>
              </a:rPr>
              <a:t>1. Systèmes économiques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8" name="Text Box 7"/>
          <p:cNvSpPr/>
          <p:nvPr/>
        </p:nvSpPr>
        <p:spPr>
          <a:xfrm>
            <a:off x="324000" y="121428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Homo œconomicus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29" name="Text Box 7"/>
          <p:cNvSpPr/>
          <p:nvPr/>
        </p:nvSpPr>
        <p:spPr>
          <a:xfrm>
            <a:off x="324000" y="2000160"/>
            <a:ext cx="8391240" cy="155700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Homo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œ</a:t>
            </a:r>
            <a:r>
              <a:rPr b="1" i="1" lang="de-CH" sz="2400" spc="-1" strike="noStrike">
                <a:solidFill>
                  <a:srgbClr val="000000"/>
                </a:solidFill>
                <a:latin typeface="Calibri"/>
              </a:rPr>
              <a:t>conomicus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adigme comportemental des sciences économiques selon lequel l’individu est rationnel dans sa prise de décision et cherche à maximiser son propre profit/intérêt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324000" y="3632040"/>
            <a:ext cx="829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intérêt propre de l’individu dépend aussi du bien-être de son entourage.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L’intérêt propre n’est pas à confondre avec l’égoisme dans un sens négatif.</a:t>
            </a: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5:32:08Z</dcterms:created>
  <dc:creator>Damian Künzi</dc:creator>
  <dc:description/>
  <dc:language>en-US</dc:language>
  <cp:lastModifiedBy>Alice Micheau</cp:lastModifiedBy>
  <cp:lastPrinted>2019-05-08T14:22:14Z</cp:lastPrinted>
  <dcterms:modified xsi:type="dcterms:W3CDTF">2022-08-30T09:09:38Z</dcterms:modified>
  <cp:revision>266</cp:revision>
  <dc:subject/>
  <dc:title>Inflation und Geldpolitik</dc:title>
</cp:coreProperties>
</file>